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99300" cy="10234613"/>
  <p:custShowLst>
    <p:custShow name="ACL Spec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69CA-B637-4CB9-8BE3-94F112785D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投影片編號版面配置區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BC94-6E1A-4F80-964F-FC6BD85B1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EEA00-C6C0-43BF-9A83-5806AC00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7C26-F576-4A5E-BA5C-0678E7EE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0740-052D-4DB2-88EC-42FB3DCA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CE12-2574-4CB7-92D5-80922FDC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F863-DDA2-40FF-B513-7A133FA1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9B41-8216-4CC9-BE2C-B6EB50D6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8475-6589-447F-97B7-55E10F73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1452-E5A7-40A7-9A8B-030C20AE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763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C0AA-123D-4151-AA56-2B7BCBD5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445E-9D22-4EEA-8F48-02E2F32D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B238-AF8D-485D-ABAB-830BEB90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3F47-50B8-4E28-86DA-4EDFF43D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E6CCE7A-9365-483A-9166-6842807B2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56160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4E54851-4543-4269-B400-FC9B82F3E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DRAM BRING UP</a:t>
            </a:r>
            <a:br>
              <a:rPr sz="40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CONFIGURATION</a:t>
            </a:r>
            <a:endParaRPr b="1" lang="en-US" sz="2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ia-Liang H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exhung@realtek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C53A609-3B82-4AF7-AE33-ED85CBAC5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5840" y="785880"/>
            <a:ext cx="8686800" cy="428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to find DTR parameters requirement in DRAM Datashe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2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7500960" cy="2087280"/>
          </a:xfrm>
          <a:prstGeom prst="rect">
            <a:avLst/>
          </a:prstGeom>
          <a:ln w="0">
            <a:noFill/>
          </a:ln>
        </p:spPr>
      </p:pic>
      <p:sp>
        <p:nvSpPr>
          <p:cNvPr id="133" name="文字方塊 12"/>
          <p:cNvSpPr/>
          <p:nvPr/>
        </p:nvSpPr>
        <p:spPr>
          <a:xfrm>
            <a:off x="6996240" y="2585880"/>
            <a:ext cx="2071440" cy="337320"/>
          </a:xfrm>
          <a:prstGeom prst="rect">
            <a:avLst/>
          </a:prstGeom>
          <a:solidFill>
            <a:srgbClr val="ffffcc"/>
          </a:solidFill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Impact"/>
              </a:rPr>
              <a:t>4. Notice the unit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4" name="文字方塊 14"/>
          <p:cNvSpPr/>
          <p:nvPr/>
        </p:nvSpPr>
        <p:spPr>
          <a:xfrm>
            <a:off x="4818240" y="1870200"/>
            <a:ext cx="32144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3. Find the requirement value here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5" name="文字方塊 15"/>
          <p:cNvSpPr/>
          <p:nvPr/>
        </p:nvSpPr>
        <p:spPr>
          <a:xfrm>
            <a:off x="214200" y="1428840"/>
            <a:ext cx="23576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Impact"/>
              </a:rPr>
              <a:t>1. find AC Timing Table in DRAM datashee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6" name="文字方塊 18"/>
          <p:cNvSpPr/>
          <p:nvPr/>
        </p:nvSpPr>
        <p:spPr>
          <a:xfrm>
            <a:off x="2786040" y="1428840"/>
            <a:ext cx="3857760" cy="5806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2. Using DTR related parameter as keywor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7" name="圓角矩形 18"/>
          <p:cNvSpPr/>
          <p:nvPr/>
        </p:nvSpPr>
        <p:spPr>
          <a:xfrm>
            <a:off x="3000240" y="3143160"/>
            <a:ext cx="857520" cy="2214720"/>
          </a:xfrm>
          <a:custGeom>
            <a:avLst/>
            <a:gdLst>
              <a:gd name="textAreaLeft" fmla="*/ 41760 w 857520"/>
              <a:gd name="textAreaRight" fmla="*/ 815760 w 857520"/>
              <a:gd name="textAreaTop" fmla="*/ 41760 h 2214720"/>
              <a:gd name="textAreaBottom" fmla="*/ 2172960 h 2214720"/>
            </a:gdLst>
            <a:ahLst/>
            <a:rect l="textAreaLeft" t="textAreaTop" r="textAreaRight" b="textAreaBottom"/>
            <a:pathLst>
              <a:path w="21600" h="55772">
                <a:moveTo>
                  <a:pt x="3600" y="0"/>
                </a:moveTo>
                <a:arcTo wR="3600" hR="3600" stAng="16200000" swAng="-5400000"/>
                <a:lnTo>
                  <a:pt x="0" y="52172"/>
                </a:lnTo>
                <a:arcTo wR="3600" hR="3600" stAng="10800000" swAng="-5400000"/>
                <a:lnTo>
                  <a:pt x="18000" y="557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8" name="圓角矩形 18"/>
          <p:cNvSpPr/>
          <p:nvPr/>
        </p:nvSpPr>
        <p:spPr>
          <a:xfrm>
            <a:off x="3929040" y="3143160"/>
            <a:ext cx="3214800" cy="228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9" name="圓角矩形 18"/>
          <p:cNvSpPr/>
          <p:nvPr/>
        </p:nvSpPr>
        <p:spPr>
          <a:xfrm>
            <a:off x="7143840" y="3143160"/>
            <a:ext cx="642960" cy="2286000"/>
          </a:xfrm>
          <a:custGeom>
            <a:avLst/>
            <a:gdLst>
              <a:gd name="textAreaLeft" fmla="*/ 31320 w 642960"/>
              <a:gd name="textAreaRight" fmla="*/ 611640 w 642960"/>
              <a:gd name="textAreaTop" fmla="*/ 31320 h 2286000"/>
              <a:gd name="textAreaBottom" fmla="*/ 2254680 h 2286000"/>
            </a:gdLst>
            <a:ahLst/>
            <a:rect l="textAreaLeft" t="textAreaTop" r="textAreaRight" b="textAreaBottom"/>
            <a:pathLst>
              <a:path w="21600" h="76766">
                <a:moveTo>
                  <a:pt x="3600" y="0"/>
                </a:moveTo>
                <a:arcTo wR="3600" hR="3600" stAng="16200000" swAng="-5400000"/>
                <a:lnTo>
                  <a:pt x="0" y="73166"/>
                </a:lnTo>
                <a:arcTo wR="3600" hR="3600" stAng="10800000" swAng="-5400000"/>
                <a:lnTo>
                  <a:pt x="18000" y="76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0" name="直線單箭頭接點 19"/>
          <p:cNvCxnSpPr>
            <a:stCxn id="136" idx="2"/>
            <a:endCxn id="137" idx="0"/>
          </p:cNvCxnSpPr>
          <p:nvPr/>
        </p:nvCxnSpPr>
        <p:spPr>
          <a:xfrm rot="5400000">
            <a:off x="3383280" y="1811880"/>
            <a:ext cx="1377000" cy="1286640"/>
          </a:xfrm>
          <a:prstGeom prst="bentConnector3">
            <a:avLst>
              <a:gd name="adj1" fmla="val 50000"/>
            </a:avLst>
          </a:prstGeom>
          <a:ln w="28440">
            <a:solidFill>
              <a:srgbClr val="0033cc"/>
            </a:solidFill>
            <a:prstDash val="dash"/>
            <a:round/>
            <a:tailEnd len="med" type="arrow" w="med"/>
          </a:ln>
        </p:spPr>
      </p:cxnSp>
      <p:sp>
        <p:nvSpPr>
          <p:cNvPr id="141" name="矩形 38"/>
          <p:cNvSpPr/>
          <p:nvPr/>
        </p:nvSpPr>
        <p:spPr>
          <a:xfrm>
            <a:off x="571680" y="2857680"/>
            <a:ext cx="285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Impact"/>
              </a:rPr>
              <a:t>(Source is from NANYA DRAM DataSheet</a:t>
            </a:r>
            <a:endParaRPr b="0" lang="en-US" sz="10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2" name="直線單箭頭接點 19"/>
          <p:cNvCxnSpPr>
            <a:stCxn id="135" idx="2"/>
            <a:endCxn id="141" idx="1"/>
          </p:cNvCxnSpPr>
          <p:nvPr/>
        </p:nvCxnSpPr>
        <p:spPr>
          <a:xfrm rot="5400000">
            <a:off x="497160" y="2086560"/>
            <a:ext cx="968760" cy="821160"/>
          </a:xfrm>
          <a:prstGeom prst="bentConnector4">
            <a:avLst>
              <a:gd name="adj1" fmla="val 43605"/>
              <a:gd name="adj2" fmla="val 127807"/>
            </a:avLst>
          </a:prstGeom>
          <a:ln w="28440">
            <a:solidFill>
              <a:srgbClr val="339933"/>
            </a:solidFill>
            <a:prstDash val="dash"/>
            <a:round/>
            <a:tailEnd len="med" type="arrow" w="med"/>
          </a:ln>
        </p:spPr>
      </p:cxnSp>
      <p:cxnSp>
        <p:nvCxnSpPr>
          <p:cNvPr id="143" name="直線單箭頭接點 19"/>
          <p:cNvCxnSpPr>
            <a:stCxn id="134" idx="2"/>
            <a:endCxn id="138" idx="0"/>
          </p:cNvCxnSpPr>
          <p:nvPr/>
        </p:nvCxnSpPr>
        <p:spPr>
          <a:xfrm rot="5400000">
            <a:off x="5635440" y="2354760"/>
            <a:ext cx="689760" cy="888120"/>
          </a:xfrm>
          <a:prstGeom prst="bentConnector3">
            <a:avLst>
              <a:gd name="adj1" fmla="val 49973"/>
            </a:avLst>
          </a:prstGeom>
          <a:ln w="28440">
            <a:solidFill>
              <a:srgbClr val="c00000"/>
            </a:solidFill>
            <a:prstDash val="dash"/>
            <a:round/>
            <a:tailEnd len="med" type="arrow" w="med"/>
          </a:ln>
        </p:spPr>
      </p:cxnSp>
      <p:cxnSp>
        <p:nvCxnSpPr>
          <p:cNvPr id="144" name="直線單箭頭接點 19"/>
          <p:cNvCxnSpPr>
            <a:stCxn id="133" idx="2"/>
            <a:endCxn id="139" idx="3"/>
          </p:cNvCxnSpPr>
          <p:nvPr/>
        </p:nvCxnSpPr>
        <p:spPr>
          <a:xfrm rot="5400000">
            <a:off x="7227000" y="3481200"/>
            <a:ext cx="1364400" cy="246600"/>
          </a:xfrm>
          <a:prstGeom prst="bentConnector2">
            <a:avLst/>
          </a:prstGeom>
          <a:ln w="28440">
            <a:solidFill>
              <a:srgbClr val="730000"/>
            </a:solidFill>
            <a:prstDash val="dash"/>
            <a:round/>
            <a:tailEnd len="med" type="arrow" w="med"/>
          </a:ln>
        </p:spPr>
      </p:cxnSp>
      <p:sp>
        <p:nvSpPr>
          <p:cNvPr id="145" name="圓角矩形圖說文字 236"/>
          <p:cNvSpPr/>
          <p:nvPr/>
        </p:nvSpPr>
        <p:spPr>
          <a:xfrm>
            <a:off x="371520" y="5643720"/>
            <a:ext cx="484812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While DRAM frequency has been modified, DRAM AC Timing  should be re-verified and configured.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4200" y="785880"/>
            <a:ext cx="8686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heck signals amplitude and dc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: measure point is 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D: measure point is Chip Sid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639DB27-A4DA-4B4C-BE7D-6BE96BDF0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4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51" name="群組 23"/>
          <p:cNvGrpSpPr/>
          <p:nvPr/>
        </p:nvGrpSpPr>
        <p:grpSpPr>
          <a:xfrm>
            <a:off x="857160" y="3071880"/>
            <a:ext cx="4286520" cy="744480"/>
            <a:chOff x="857160" y="3071880"/>
            <a:chExt cx="4286520" cy="744480"/>
          </a:xfrm>
        </p:grpSpPr>
        <p:sp>
          <p:nvSpPr>
            <p:cNvPr id="152" name="矩形 16"/>
            <p:cNvSpPr/>
            <p:nvPr/>
          </p:nvSpPr>
          <p:spPr>
            <a:xfrm>
              <a:off x="85716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Chip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3" name="矩形 18"/>
            <p:cNvSpPr/>
            <p:nvPr/>
          </p:nvSpPr>
          <p:spPr>
            <a:xfrm>
              <a:off x="400068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DRAM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4" name="直線接點 20"/>
            <p:cNvSpPr/>
            <p:nvPr/>
          </p:nvSpPr>
          <p:spPr>
            <a:xfrm>
              <a:off x="2000160" y="3444120"/>
              <a:ext cx="2000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55" name="直線接點 22"/>
          <p:cNvSpPr/>
          <p:nvPr/>
        </p:nvSpPr>
        <p:spPr>
          <a:xfrm flipV="1">
            <a:off x="3785400" y="2795400"/>
            <a:ext cx="142920" cy="642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6" name="文字方塊 24"/>
          <p:cNvSpPr/>
          <p:nvPr/>
        </p:nvSpPr>
        <p:spPr>
          <a:xfrm>
            <a:off x="3714840" y="2428920"/>
            <a:ext cx="242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7" name="直線接點 25"/>
          <p:cNvSpPr/>
          <p:nvPr/>
        </p:nvSpPr>
        <p:spPr>
          <a:xfrm>
            <a:off x="2214000" y="3457440"/>
            <a:ext cx="214200" cy="50004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8" name="文字方塊 26"/>
          <p:cNvSpPr/>
          <p:nvPr/>
        </p:nvSpPr>
        <p:spPr>
          <a:xfrm>
            <a:off x="2071800" y="3929040"/>
            <a:ext cx="22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REA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9" name="文字方塊 29"/>
          <p:cNvSpPr/>
          <p:nvPr/>
        </p:nvSpPr>
        <p:spPr>
          <a:xfrm>
            <a:off x="857160" y="4214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RAM Signal Measure Poin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60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61" name="圓角矩形 34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2" name="圓角矩形 35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3" name="圓角矩形 36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4" name="向下箭號 37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5" name="向下箭號 38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6" name="圓角矩形 39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7" name="向下箭號 40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8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9" name="向下箭號 42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70" name="圓角矩形圖說文字 236"/>
          <p:cNvSpPr/>
          <p:nvPr/>
        </p:nvSpPr>
        <p:spPr>
          <a:xfrm>
            <a:off x="5214960" y="4572000"/>
            <a:ext cx="3714840" cy="192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Continuous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read_pattern &lt;times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 write_pattern &lt;times&gt; &lt;pattern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Single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lw &lt;addr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w &lt;addr&gt;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1" name="直線接點 27"/>
          <p:cNvSpPr/>
          <p:nvPr/>
        </p:nvSpPr>
        <p:spPr>
          <a:xfrm flipV="1">
            <a:off x="4071960" y="5536800"/>
            <a:ext cx="1143000" cy="12600"/>
          </a:xfrm>
          <a:prstGeom prst="line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2" name="文字方塊 24"/>
          <p:cNvSpPr/>
          <p:nvPr/>
        </p:nvSpPr>
        <p:spPr>
          <a:xfrm>
            <a:off x="642960" y="52578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Those commands are applied to perform pure READ/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signals are below or above requirement, use command to change termination resistance value and re-che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p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(On-Die-Terminat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CD (On-Chip-Drive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and Dynamic ODT (Rtt_WR, DDR3 on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iving streng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958C133-39AA-40FB-9ED9-837F62B4E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8" name="圓角矩形圖說文字 236"/>
          <p:cNvSpPr/>
          <p:nvPr/>
        </p:nvSpPr>
        <p:spPr>
          <a:xfrm>
            <a:off x="4286160" y="4071960"/>
            <a:ext cx="4214880" cy="207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Chip side ODT/OCD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tl_odt_o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odt&gt; &lt;ocd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DRAM side ODT/OCD: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odt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rtt_wr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only for DDR3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rv_streng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ohm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9" name="文字方塊 24"/>
          <p:cNvSpPr/>
          <p:nvPr/>
        </p:nvSpPr>
        <p:spPr>
          <a:xfrm>
            <a:off x="165240" y="6313320"/>
            <a:ext cx="412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to modify ODT first and then OCD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signal with/without DDR pad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“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et dram ctl_odt_ocd 75 6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052BDF7-BF00-4DA2-85E4-4CC147C24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85" name="群組 10"/>
          <p:cNvGrpSpPr/>
          <p:nvPr/>
        </p:nvGrpSpPr>
        <p:grpSpPr>
          <a:xfrm>
            <a:off x="214200" y="2054160"/>
            <a:ext cx="8715600" cy="3160800"/>
            <a:chOff x="214200" y="2054160"/>
            <a:chExt cx="8715600" cy="3160800"/>
          </a:xfrm>
        </p:grpSpPr>
        <p:pic>
          <p:nvPicPr>
            <p:cNvPr id="186" name="Picture 8" descr="D:\Projects\HS0\RTL8390\real_chip\20130309\CLK_NO ZQ.bmp"/>
            <p:cNvPicPr/>
            <p:nvPr/>
          </p:nvPicPr>
          <p:blipFill>
            <a:blip r:embed="rId1"/>
            <a:stretch/>
          </p:blipFill>
          <p:spPr>
            <a:xfrm>
              <a:off x="214200" y="2054160"/>
              <a:ext cx="4191120" cy="31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87" name="Picture 9" descr="D:\Projects\HS0\RTL8390\real_chip\20130309\CLK_ZQ.bmp"/>
            <p:cNvPicPr/>
            <p:nvPr/>
          </p:nvPicPr>
          <p:blipFill>
            <a:blip r:embed="rId2"/>
            <a:stretch/>
          </p:blipFill>
          <p:spPr>
            <a:xfrm>
              <a:off x="4714920" y="2054160"/>
              <a:ext cx="4214880" cy="3160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8" name="向右箭號 9"/>
            <p:cNvSpPr/>
            <p:nvPr/>
          </p:nvSpPr>
          <p:spPr>
            <a:xfrm>
              <a:off x="4214880" y="4554720"/>
              <a:ext cx="714240" cy="500040"/>
            </a:xfrm>
            <a:prstGeom prst="rightArrow">
              <a:avLst>
                <a:gd name="adj1" fmla="val 50000"/>
                <a:gd name="adj2" fmla="val 49999"/>
              </a:avLst>
            </a:prstGeom>
            <a:solidFill>
              <a:srgbClr val="339933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89" name="矩形 10"/>
          <p:cNvSpPr/>
          <p:nvPr/>
        </p:nvSpPr>
        <p:spPr>
          <a:xfrm>
            <a:off x="46080" y="5286240"/>
            <a:ext cx="20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0" name="矩形 11"/>
          <p:cNvSpPr/>
          <p:nvPr/>
        </p:nvSpPr>
        <p:spPr>
          <a:xfrm>
            <a:off x="4547160" y="52862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75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60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1" name="文字方塊 24"/>
          <p:cNvSpPr/>
          <p:nvPr/>
        </p:nvSpPr>
        <p:spPr>
          <a:xfrm>
            <a:off x="250920" y="626436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Singal should be large than 1.1 V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o WRITE Delay Timing Adju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ata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792387E-3D11-4784-87A9-29931F5CC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7" name="矩形 28"/>
          <p:cNvSpPr/>
          <p:nvPr/>
        </p:nvSpPr>
        <p:spPr>
          <a:xfrm>
            <a:off x="28584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Chip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8" name="文字方塊 231"/>
          <p:cNvSpPr/>
          <p:nvPr/>
        </p:nvSpPr>
        <p:spPr>
          <a:xfrm>
            <a:off x="714240" y="3354480"/>
            <a:ext cx="7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TX 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9" name="矩形 36"/>
          <p:cNvSpPr/>
          <p:nvPr/>
        </p:nvSpPr>
        <p:spPr>
          <a:xfrm>
            <a:off x="500076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DRAM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0" name="文字方塊 303"/>
          <p:cNvSpPr/>
          <p:nvPr/>
        </p:nvSpPr>
        <p:spPr>
          <a:xfrm>
            <a:off x="4929120" y="3354480"/>
            <a:ext cx="5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1" name="文字方塊 231"/>
          <p:cNvSpPr/>
          <p:nvPr/>
        </p:nvSpPr>
        <p:spPr>
          <a:xfrm>
            <a:off x="85716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2" name="文字方塊 303"/>
          <p:cNvSpPr/>
          <p:nvPr/>
        </p:nvSpPr>
        <p:spPr>
          <a:xfrm>
            <a:off x="492912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3" name="文字方塊 231"/>
          <p:cNvSpPr/>
          <p:nvPr/>
        </p:nvSpPr>
        <p:spPr>
          <a:xfrm>
            <a:off x="857160" y="548784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4" name="文字方塊 303"/>
          <p:cNvSpPr/>
          <p:nvPr/>
        </p:nvSpPr>
        <p:spPr>
          <a:xfrm>
            <a:off x="4929120" y="54784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05" name="群組 194"/>
          <p:cNvGrpSpPr/>
          <p:nvPr/>
        </p:nvGrpSpPr>
        <p:grpSpPr>
          <a:xfrm>
            <a:off x="1376280" y="3271680"/>
            <a:ext cx="3757680" cy="439920"/>
            <a:chOff x="1376280" y="3271680"/>
            <a:chExt cx="3757680" cy="439920"/>
          </a:xfrm>
        </p:grpSpPr>
        <p:sp>
          <p:nvSpPr>
            <p:cNvPr id="206" name="直線接點 44"/>
            <p:cNvSpPr/>
            <p:nvPr/>
          </p:nvSpPr>
          <p:spPr>
            <a:xfrm>
              <a:off x="1376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7" name="直線接點 45"/>
            <p:cNvSpPr/>
            <p:nvPr/>
          </p:nvSpPr>
          <p:spPr>
            <a:xfrm flipV="1">
              <a:off x="180792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8" name="直線接點 46"/>
            <p:cNvSpPr/>
            <p:nvPr/>
          </p:nvSpPr>
          <p:spPr>
            <a:xfrm flipH="1" flipV="1">
              <a:off x="2313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9" name="直線接點 47"/>
            <p:cNvSpPr/>
            <p:nvPr/>
          </p:nvSpPr>
          <p:spPr>
            <a:xfrm flipV="1">
              <a:off x="2816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0" name="直線接點 48"/>
            <p:cNvSpPr/>
            <p:nvPr/>
          </p:nvSpPr>
          <p:spPr>
            <a:xfrm flipH="1" flipV="1">
              <a:off x="3321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1" name="直線接點 49"/>
            <p:cNvSpPr/>
            <p:nvPr/>
          </p:nvSpPr>
          <p:spPr>
            <a:xfrm flipV="1">
              <a:off x="3824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2" name="直線接點 50"/>
            <p:cNvSpPr/>
            <p:nvPr/>
          </p:nvSpPr>
          <p:spPr>
            <a:xfrm flipH="1" flipV="1">
              <a:off x="432936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3" name="直線接點 51"/>
            <p:cNvSpPr/>
            <p:nvPr/>
          </p:nvSpPr>
          <p:spPr>
            <a:xfrm>
              <a:off x="1881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4" name="直線接點 52"/>
            <p:cNvSpPr/>
            <p:nvPr/>
          </p:nvSpPr>
          <p:spPr>
            <a:xfrm>
              <a:off x="2384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5" name="直線接點 53"/>
            <p:cNvSpPr/>
            <p:nvPr/>
          </p:nvSpPr>
          <p:spPr>
            <a:xfrm>
              <a:off x="2889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6" name="直線接點 54"/>
            <p:cNvSpPr/>
            <p:nvPr/>
          </p:nvSpPr>
          <p:spPr>
            <a:xfrm>
              <a:off x="3392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7" name="直線接點 55"/>
            <p:cNvSpPr/>
            <p:nvPr/>
          </p:nvSpPr>
          <p:spPr>
            <a:xfrm>
              <a:off x="389736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8" name="直線接點 56"/>
            <p:cNvSpPr/>
            <p:nvPr/>
          </p:nvSpPr>
          <p:spPr>
            <a:xfrm>
              <a:off x="440064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9" name="直線接點 57"/>
            <p:cNvSpPr/>
            <p:nvPr/>
          </p:nvSpPr>
          <p:spPr>
            <a:xfrm flipV="1">
              <a:off x="483264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0" name="直線接點 58"/>
            <p:cNvSpPr/>
            <p:nvPr/>
          </p:nvSpPr>
          <p:spPr>
            <a:xfrm>
              <a:off x="4876920" y="3271680"/>
              <a:ext cx="2570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1" name="群組 230"/>
          <p:cNvGrpSpPr/>
          <p:nvPr/>
        </p:nvGrpSpPr>
        <p:grpSpPr>
          <a:xfrm>
            <a:off x="1486080" y="3782880"/>
            <a:ext cx="3500280" cy="932040"/>
            <a:chOff x="1486080" y="3782880"/>
            <a:chExt cx="3500280" cy="932040"/>
          </a:xfrm>
        </p:grpSpPr>
        <p:sp>
          <p:nvSpPr>
            <p:cNvPr id="222" name="剪去對角線角落矩形 60"/>
            <p:cNvSpPr/>
            <p:nvPr/>
          </p:nvSpPr>
          <p:spPr>
            <a:xfrm>
              <a:off x="2600280" y="3782880"/>
              <a:ext cx="50940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WRITE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3" name="剪去對角線角落矩形 61"/>
            <p:cNvSpPr/>
            <p:nvPr/>
          </p:nvSpPr>
          <p:spPr>
            <a:xfrm>
              <a:off x="2619360" y="4282920"/>
              <a:ext cx="49032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ADDR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4" name="直線接點 62"/>
            <p:cNvSpPr/>
            <p:nvPr/>
          </p:nvSpPr>
          <p:spPr>
            <a:xfrm>
              <a:off x="1486080" y="3997080"/>
              <a:ext cx="111420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5" name="直線接點 63"/>
            <p:cNvSpPr/>
            <p:nvPr/>
          </p:nvSpPr>
          <p:spPr>
            <a:xfrm flipV="1">
              <a:off x="3110040" y="39970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6" name="直線接點 64"/>
            <p:cNvSpPr/>
            <p:nvPr/>
          </p:nvSpPr>
          <p:spPr>
            <a:xfrm>
              <a:off x="1486080" y="4497480"/>
              <a:ext cx="113328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7" name="直線接點 65"/>
            <p:cNvSpPr/>
            <p:nvPr/>
          </p:nvSpPr>
          <p:spPr>
            <a:xfrm flipV="1">
              <a:off x="3110040" y="44974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8" name="群組 77"/>
          <p:cNvGrpSpPr/>
          <p:nvPr/>
        </p:nvGrpSpPr>
        <p:grpSpPr>
          <a:xfrm>
            <a:off x="1428840" y="5425920"/>
            <a:ext cx="3500280" cy="432000"/>
            <a:chOff x="1428840" y="5425920"/>
            <a:chExt cx="3500280" cy="432000"/>
          </a:xfrm>
        </p:grpSpPr>
        <p:sp>
          <p:nvSpPr>
            <p:cNvPr id="229" name="直線接點 67"/>
            <p:cNvSpPr/>
            <p:nvPr/>
          </p:nvSpPr>
          <p:spPr>
            <a:xfrm flipV="1">
              <a:off x="4610160" y="5640480"/>
              <a:ext cx="3189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0" name="直線接點 68"/>
            <p:cNvSpPr/>
            <p:nvPr/>
          </p:nvSpPr>
          <p:spPr>
            <a:xfrm>
              <a:off x="1428840" y="5640480"/>
              <a:ext cx="21621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1" name="剪去對角線角落矩形 69"/>
            <p:cNvSpPr/>
            <p:nvPr/>
          </p:nvSpPr>
          <p:spPr>
            <a:xfrm>
              <a:off x="4129200" y="5425920"/>
              <a:ext cx="48096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1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2" name="剪去對角線角落矩形 70"/>
            <p:cNvSpPr/>
            <p:nvPr/>
          </p:nvSpPr>
          <p:spPr>
            <a:xfrm>
              <a:off x="3591000" y="5425920"/>
              <a:ext cx="51912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0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33" name="群組 245"/>
          <p:cNvGrpSpPr/>
          <p:nvPr/>
        </p:nvGrpSpPr>
        <p:grpSpPr>
          <a:xfrm>
            <a:off x="1447920" y="4786200"/>
            <a:ext cx="3744720" cy="439920"/>
            <a:chOff x="1447920" y="4786200"/>
            <a:chExt cx="3744720" cy="439920"/>
          </a:xfrm>
        </p:grpSpPr>
        <p:sp>
          <p:nvSpPr>
            <p:cNvPr id="234" name="直線接點 78"/>
            <p:cNvSpPr/>
            <p:nvPr/>
          </p:nvSpPr>
          <p:spPr>
            <a:xfrm flipV="1">
              <a:off x="2816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5" name="直線接點 79"/>
            <p:cNvSpPr/>
            <p:nvPr/>
          </p:nvSpPr>
          <p:spPr>
            <a:xfrm flipH="1" flipV="1">
              <a:off x="332100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6" name="直線接點 80"/>
            <p:cNvSpPr/>
            <p:nvPr/>
          </p:nvSpPr>
          <p:spPr>
            <a:xfrm flipV="1">
              <a:off x="3824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7" name="直線接點 81"/>
            <p:cNvSpPr/>
            <p:nvPr/>
          </p:nvSpPr>
          <p:spPr>
            <a:xfrm flipH="1" flipV="1">
              <a:off x="432936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8" name="直線接點 82"/>
            <p:cNvSpPr/>
            <p:nvPr/>
          </p:nvSpPr>
          <p:spPr>
            <a:xfrm>
              <a:off x="1447920" y="5215320"/>
              <a:ext cx="1368360" cy="28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9" name="直線接點 83"/>
            <p:cNvSpPr/>
            <p:nvPr/>
          </p:nvSpPr>
          <p:spPr>
            <a:xfrm>
              <a:off x="2889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0" name="直線接點 84"/>
            <p:cNvSpPr/>
            <p:nvPr/>
          </p:nvSpPr>
          <p:spPr>
            <a:xfrm>
              <a:off x="3392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1" name="直線接點 85"/>
            <p:cNvSpPr/>
            <p:nvPr/>
          </p:nvSpPr>
          <p:spPr>
            <a:xfrm>
              <a:off x="3897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2" name="直線接點 86"/>
            <p:cNvSpPr/>
            <p:nvPr/>
          </p:nvSpPr>
          <p:spPr>
            <a:xfrm>
              <a:off x="4400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3" name="直線接點 87"/>
            <p:cNvSpPr/>
            <p:nvPr/>
          </p:nvSpPr>
          <p:spPr>
            <a:xfrm flipV="1">
              <a:off x="4832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4" name="直線接點 88"/>
            <p:cNvSpPr/>
            <p:nvPr/>
          </p:nvSpPr>
          <p:spPr>
            <a:xfrm>
              <a:off x="4905360" y="4786200"/>
              <a:ext cx="2872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45" name="圓角矩形圖說文字 236"/>
          <p:cNvSpPr/>
          <p:nvPr/>
        </p:nvSpPr>
        <p:spPr>
          <a:xfrm>
            <a:off x="857160" y="6000840"/>
            <a:ext cx="3500640" cy="714240"/>
          </a:xfrm>
          <a:prstGeom prst="wedgeRoundRectCallout">
            <a:avLst>
              <a:gd name="adj1" fmla="val 69597"/>
              <a:gd name="adj2" fmla="val -92064"/>
              <a:gd name="adj3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6" name="圓角矩形圖說文字 236"/>
          <p:cNvSpPr/>
          <p:nvPr/>
        </p:nvSpPr>
        <p:spPr>
          <a:xfrm>
            <a:off x="5929200" y="4643280"/>
            <a:ext cx="2857680" cy="642960"/>
          </a:xfrm>
          <a:prstGeom prst="wedgeRoundRectCallout">
            <a:avLst>
              <a:gd name="adj1" fmla="val -62629"/>
              <a:gd name="adj2" fmla="val -5769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7" name="圓角矩形圖說文字 236"/>
          <p:cNvSpPr/>
          <p:nvPr/>
        </p:nvSpPr>
        <p:spPr>
          <a:xfrm>
            <a:off x="5572080" y="3643200"/>
            <a:ext cx="3409920" cy="642960"/>
          </a:xfrm>
          <a:prstGeom prst="wedgeRoundRectCallout">
            <a:avLst>
              <a:gd name="adj1" fmla="val -56824"/>
              <a:gd name="adj2" fmla="val -90583"/>
              <a:gd name="adj3" fmla="val 16667"/>
            </a:avLst>
          </a:prstGeom>
          <a:solidFill>
            <a:srgbClr val="ff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8" name="右大括弧 99"/>
          <p:cNvSpPr/>
          <p:nvPr/>
        </p:nvSpPr>
        <p:spPr>
          <a:xfrm>
            <a:off x="5214960" y="3857760"/>
            <a:ext cx="500040" cy="14284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428480"/>
              <a:gd name="textAreaBottom" fmla="*/ 141552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170"/>
                </a:lnTo>
                <a:cubicBezTo>
                  <a:pt x="10800" y="10485"/>
                  <a:pt x="16200" y="10800"/>
                  <a:pt x="21600" y="10800"/>
                </a:cubicBezTo>
                <a:cubicBezTo>
                  <a:pt x="16200" y="10800"/>
                  <a:pt x="10800" y="11115"/>
                  <a:pt x="10800" y="11430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49" name="群組 15"/>
          <p:cNvGrpSpPr/>
          <p:nvPr/>
        </p:nvGrpSpPr>
        <p:grpSpPr>
          <a:xfrm>
            <a:off x="6858000" y="714240"/>
            <a:ext cx="2009880" cy="2643480"/>
            <a:chOff x="6858000" y="714240"/>
            <a:chExt cx="2009880" cy="2643480"/>
          </a:xfrm>
        </p:grpSpPr>
        <p:sp>
          <p:nvSpPr>
            <p:cNvPr id="250" name="圓角矩形 104"/>
            <p:cNvSpPr/>
            <p:nvPr/>
          </p:nvSpPr>
          <p:spPr>
            <a:xfrm>
              <a:off x="6858000" y="71424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1" name="圓角矩形 105"/>
            <p:cNvSpPr/>
            <p:nvPr/>
          </p:nvSpPr>
          <p:spPr>
            <a:xfrm>
              <a:off x="6858000" y="128556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2" name="圓角矩形 106"/>
            <p:cNvSpPr/>
            <p:nvPr/>
          </p:nvSpPr>
          <p:spPr>
            <a:xfrm>
              <a:off x="685800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3" name="向下箭號 107"/>
            <p:cNvSpPr/>
            <p:nvPr/>
          </p:nvSpPr>
          <p:spPr>
            <a:xfrm>
              <a:off x="7740720" y="113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4" name="向下箭號 108"/>
            <p:cNvSpPr/>
            <p:nvPr/>
          </p:nvSpPr>
          <p:spPr>
            <a:xfrm>
              <a:off x="7740720" y="167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5" name="圓角矩形 109"/>
            <p:cNvSpPr/>
            <p:nvPr/>
          </p:nvSpPr>
          <p:spPr>
            <a:xfrm>
              <a:off x="686268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6" name="向下箭號 110"/>
            <p:cNvSpPr/>
            <p:nvPr/>
          </p:nvSpPr>
          <p:spPr>
            <a:xfrm>
              <a:off x="7738920" y="22575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7" name="圓角矩形 15"/>
            <p:cNvSpPr/>
            <p:nvPr/>
          </p:nvSpPr>
          <p:spPr>
            <a:xfrm>
              <a:off x="6858000" y="30355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8" name="向下箭號 112"/>
            <p:cNvSpPr/>
            <p:nvPr/>
          </p:nvSpPr>
          <p:spPr>
            <a:xfrm>
              <a:off x="7738920" y="28576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59" name="直線接點 113"/>
          <p:cNvSpPr/>
          <p:nvPr/>
        </p:nvSpPr>
        <p:spPr>
          <a:xfrm>
            <a:off x="28576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0" name="直線接點 117"/>
          <p:cNvSpPr/>
          <p:nvPr/>
        </p:nvSpPr>
        <p:spPr>
          <a:xfrm>
            <a:off x="33670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1" name="直線接點 118"/>
          <p:cNvSpPr/>
          <p:nvPr/>
        </p:nvSpPr>
        <p:spPr>
          <a:xfrm>
            <a:off x="3866400" y="3000240"/>
            <a:ext cx="972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S and Data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Q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buswidth is 8-bits, DQ0~DQ7, buswidth is 16-bits, DQ0~DQ15 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Note: At least, the longest and shortest DQ signal in PCB board should be ver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E99807E-C98A-4BDD-9C2F-2BF3B916E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7" name="圓角矩形圖說文字 236"/>
          <p:cNvSpPr/>
          <p:nvPr/>
        </p:nvSpPr>
        <p:spPr>
          <a:xfrm>
            <a:off x="4500720" y="2571840"/>
            <a:ext cx="4214520" cy="157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S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n 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28760" y="4643280"/>
          <a:ext cx="7883280" cy="1479600"/>
        </p:xfrm>
        <a:graphic>
          <a:graphicData uri="http://schemas.openxmlformats.org/drawingml/2006/table">
            <a:tbl>
              <a:tblPr/>
              <a:tblGrid>
                <a:gridCol w="3251160"/>
                <a:gridCol w="1123920"/>
                <a:gridCol w="1531800"/>
                <a:gridCol w="197640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sp>
        <p:nvSpPr>
          <p:cNvPr id="269" name="文字方塊 10"/>
          <p:cNvSpPr/>
          <p:nvPr/>
        </p:nvSpPr>
        <p:spPr>
          <a:xfrm>
            <a:off x="214200" y="62215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In DRAM datasheet,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0" name="圓角矩形 18"/>
          <p:cNvSpPr/>
          <p:nvPr/>
        </p:nvSpPr>
        <p:spPr>
          <a:xfrm>
            <a:off x="3643200" y="4572000"/>
            <a:ext cx="2786040" cy="157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71" name="肘形接點 11"/>
          <p:cNvCxnSpPr>
            <a:stCxn id="270" idx="3"/>
            <a:endCxn id="269" idx="3"/>
          </p:cNvCxnSpPr>
          <p:nvPr/>
        </p:nvCxnSpPr>
        <p:spPr>
          <a:xfrm>
            <a:off x="6429240" y="5357520"/>
            <a:ext cx="2286720" cy="1033920"/>
          </a:xfrm>
          <a:prstGeom prst="bentConnector3">
            <a:avLst>
              <a:gd name="adj1" fmla="val 109998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240" y="914040"/>
            <a:ext cx="441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t dram clkm_delay 0x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pply with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-check waveform, DQS signal delays about 168 p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DH: 776 ps-&gt;944 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delay tap is about 30~40 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6BC9DB4-092B-48A5-B6D2-2B8781753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77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643280" y="7142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G:\waveform\20130318\DQS_DQ4_tDH_clkm_delay_0x5.jpg"/>
          <p:cNvPicPr/>
          <p:nvPr/>
        </p:nvPicPr>
        <p:blipFill>
          <a:blip r:embed="rId2"/>
          <a:stretch/>
        </p:blipFill>
        <p:spPr>
          <a:xfrm>
            <a:off x="4643280" y="3429000"/>
            <a:ext cx="4214880" cy="3160800"/>
          </a:xfrm>
          <a:prstGeom prst="rect">
            <a:avLst/>
          </a:prstGeom>
          <a:ln w="0">
            <a:noFill/>
          </a:ln>
        </p:spPr>
      </p:pic>
      <p:sp>
        <p:nvSpPr>
          <p:cNvPr id="279" name="向右箭號 12"/>
          <p:cNvSpPr/>
          <p:nvPr/>
        </p:nvSpPr>
        <p:spPr>
          <a:xfrm rot="5400000">
            <a:off x="5750280" y="3178800"/>
            <a:ext cx="714240" cy="5000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33993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0" name="文字方塊 16"/>
          <p:cNvSpPr/>
          <p:nvPr/>
        </p:nvSpPr>
        <p:spPr>
          <a:xfrm>
            <a:off x="5715000" y="121428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1" name="文字方塊 16"/>
          <p:cNvSpPr/>
          <p:nvPr/>
        </p:nvSpPr>
        <p:spPr>
          <a:xfrm>
            <a:off x="4714920" y="27147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2" name="矩形 14"/>
          <p:cNvSpPr/>
          <p:nvPr/>
        </p:nvSpPr>
        <p:spPr>
          <a:xfrm>
            <a:off x="6057000" y="314316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Impact"/>
              </a:rPr>
              <a:t>delay DQS0 signal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3" name="文字方塊 16"/>
          <p:cNvSpPr/>
          <p:nvPr/>
        </p:nvSpPr>
        <p:spPr>
          <a:xfrm>
            <a:off x="5715000" y="396720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4" name="文字方塊 16"/>
          <p:cNvSpPr/>
          <p:nvPr/>
        </p:nvSpPr>
        <p:spPr>
          <a:xfrm>
            <a:off x="4714920" y="54673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5" name="直線接點 2"/>
          <p:cNvSpPr/>
          <p:nvPr/>
        </p:nvSpPr>
        <p:spPr>
          <a:xfrm>
            <a:off x="702000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6" name="直線接點 17"/>
          <p:cNvSpPr/>
          <p:nvPr/>
        </p:nvSpPr>
        <p:spPr>
          <a:xfrm>
            <a:off x="733428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87" name="直線單箭頭接點 7"/>
          <p:cNvCxnSpPr/>
          <p:nvPr/>
        </p:nvCxnSpPr>
        <p:spPr>
          <a:xfrm>
            <a:off x="7019640" y="6021000"/>
            <a:ext cx="32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8" name="直線接點 20"/>
          <p:cNvSpPr/>
          <p:nvPr/>
        </p:nvSpPr>
        <p:spPr>
          <a:xfrm>
            <a:off x="70898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9" name="直線接點 21"/>
          <p:cNvSpPr/>
          <p:nvPr/>
        </p:nvSpPr>
        <p:spPr>
          <a:xfrm>
            <a:off x="73436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90" name="直線單箭頭接點 22"/>
          <p:cNvCxnSpPr/>
          <p:nvPr/>
        </p:nvCxnSpPr>
        <p:spPr>
          <a:xfrm>
            <a:off x="7072200" y="1213920"/>
            <a:ext cx="27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1" name="矩形 9"/>
          <p:cNvSpPr/>
          <p:nvPr/>
        </p:nvSpPr>
        <p:spPr>
          <a:xfrm>
            <a:off x="7061760" y="90792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776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2" name="矩形 25"/>
          <p:cNvSpPr/>
          <p:nvPr/>
        </p:nvSpPr>
        <p:spPr>
          <a:xfrm>
            <a:off x="7237080" y="61563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944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DS, tDH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FEAC487-D7BC-4039-A708-2C60C8BFA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98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071960" y="1500120"/>
            <a:ext cx="4857840" cy="3643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G:\waveform\20130318\DQS_DQ4_tDS.jpg"/>
          <p:cNvPicPr/>
          <p:nvPr/>
        </p:nvPicPr>
        <p:blipFill>
          <a:blip r:embed="rId2"/>
          <a:stretch/>
        </p:blipFill>
        <p:spPr>
          <a:xfrm>
            <a:off x="142920" y="150012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300" name="矩形 18"/>
          <p:cNvSpPr/>
          <p:nvPr/>
        </p:nvSpPr>
        <p:spPr>
          <a:xfrm>
            <a:off x="407196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1" name="矩形 18"/>
          <p:cNvSpPr/>
          <p:nvPr/>
        </p:nvSpPr>
        <p:spPr>
          <a:xfrm>
            <a:off x="800100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42920" y="5000760"/>
          <a:ext cx="7537320" cy="1479240"/>
        </p:xfrm>
        <a:graphic>
          <a:graphicData uri="http://schemas.openxmlformats.org/drawingml/2006/table">
            <a:tbl>
              <a:tblPr/>
              <a:tblGrid>
                <a:gridCol w="2905200"/>
                <a:gridCol w="1123920"/>
                <a:gridCol w="1531800"/>
                <a:gridCol w="1976400"/>
              </a:tblGrid>
              <a:tr h="37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6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cxnSp>
        <p:nvCxnSpPr>
          <p:cNvPr id="303" name="肘形接點 15"/>
          <p:cNvCxnSpPr>
            <a:stCxn id="300" idx="2"/>
          </p:cNvCxnSpPr>
          <p:nvPr/>
        </p:nvCxnSpPr>
        <p:spPr>
          <a:xfrm flipH="1" rot="16200000">
            <a:off x="4446720" y="3517560"/>
            <a:ext cx="2358000" cy="2180160"/>
          </a:xfrm>
          <a:prstGeom prst="bentConnector3">
            <a:avLst>
              <a:gd name="adj1" fmla="val 49992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04" name="肘形接點 16"/>
          <p:cNvCxnSpPr>
            <a:stCxn id="301" idx="2"/>
          </p:cNvCxnSpPr>
          <p:nvPr/>
        </p:nvCxnSpPr>
        <p:spPr>
          <a:xfrm rot="5400000">
            <a:off x="6339600" y="4160880"/>
            <a:ext cx="2858400" cy="1394640"/>
          </a:xfrm>
          <a:prstGeom prst="bentConnector3">
            <a:avLst>
              <a:gd name="adj1" fmla="val 49993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DQ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D1B0616-3F73-4929-948B-5479FBB26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0" name="圓角矩形圖說文字 236"/>
          <p:cNvSpPr/>
          <p:nvPr/>
        </p:nvSpPr>
        <p:spPr>
          <a:xfrm>
            <a:off x="4500720" y="14288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85840" y="2357280"/>
          <a:ext cx="8211960" cy="2857680"/>
        </p:xfrm>
        <a:graphic>
          <a:graphicData uri="http://schemas.openxmlformats.org/drawingml/2006/table">
            <a:tbl>
              <a:tblPr/>
              <a:tblGrid>
                <a:gridCol w="4786200"/>
                <a:gridCol w="1106640"/>
                <a:gridCol w="1130040"/>
                <a:gridCol w="1189080"/>
              </a:tblGrid>
              <a:tr h="36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latching rising transitions to associated clock edge (tDQ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to CK setup time (tD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hold time from CK (tD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HIGH pulse width (tDQ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LOW pulse width (tDQSL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  <p:sp>
        <p:nvSpPr>
          <p:cNvPr id="312" name="文字方塊 10"/>
          <p:cNvSpPr/>
          <p:nvPr/>
        </p:nvSpPr>
        <p:spPr>
          <a:xfrm>
            <a:off x="214200" y="5500800"/>
            <a:ext cx="678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3" name="圓角矩形 18"/>
          <p:cNvSpPr/>
          <p:nvPr/>
        </p:nvSpPr>
        <p:spPr>
          <a:xfrm>
            <a:off x="5000760" y="2357280"/>
            <a:ext cx="2357280" cy="2928960"/>
          </a:xfrm>
          <a:custGeom>
            <a:avLst/>
            <a:gdLst>
              <a:gd name="textAreaLeft" fmla="*/ 114840 w 2357280"/>
              <a:gd name="textAreaRight" fmla="*/ 2242440 w 2357280"/>
              <a:gd name="textAreaTop" fmla="*/ 114840 h 2928960"/>
              <a:gd name="textAreaBottom" fmla="*/ 2814120 h 2928960"/>
            </a:gdLst>
            <a:ahLst/>
            <a:rect l="textAreaLeft" t="textAreaTop" r="textAreaRight" b="textAreaBottom"/>
            <a:pathLst>
              <a:path w="21600" h="26838">
                <a:moveTo>
                  <a:pt x="3600" y="0"/>
                </a:moveTo>
                <a:arcTo wR="3600" hR="3600" stAng="16200000" swAng="-5400000"/>
                <a:lnTo>
                  <a:pt x="0" y="23238"/>
                </a:lnTo>
                <a:arcTo wR="3600" hR="3600" stAng="10800000" swAng="-5400000"/>
                <a:lnTo>
                  <a:pt x="18000" y="268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14" name="肘形接點 11"/>
          <p:cNvCxnSpPr>
            <a:stCxn id="313" idx="3"/>
            <a:endCxn id="312" idx="3"/>
          </p:cNvCxnSpPr>
          <p:nvPr/>
        </p:nvCxnSpPr>
        <p:spPr>
          <a:xfrm flipH="1">
            <a:off x="7000560" y="3822480"/>
            <a:ext cx="357840" cy="1848600"/>
          </a:xfrm>
          <a:prstGeom prst="bentConnector3">
            <a:avLst>
              <a:gd name="adj1" fmla="val -63947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DQSS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B3FA425-864A-410E-B3EB-42CFF4AC7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785960" y="13572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21" name="文字方塊 16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DQS0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2" name="文字方塊 17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3" name="矩形 18"/>
          <p:cNvSpPr/>
          <p:nvPr/>
        </p:nvSpPr>
        <p:spPr>
          <a:xfrm>
            <a:off x="6715080" y="364320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4" name="文字方塊 19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tDQSS should be within ¼ tCLK = 625 ps 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document will introduce how to use pre-calibration tool to figure out DRAM para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cu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M Datash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PU &amp; Memory Controller Datasheet’, Realtek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calibration 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E7193FC-4DEA-49B1-B60F-595DDCBE7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Command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s (RAS#, CAS#, CS# and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2A822DD-51DF-4D26-AC24-66B503A86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0" name="圓角矩形圖說文字 236"/>
          <p:cNvSpPr/>
          <p:nvPr/>
        </p:nvSpPr>
        <p:spPr>
          <a:xfrm>
            <a:off x="4500720" y="18572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31640" y="2879640"/>
          <a:ext cx="8212320" cy="3697200"/>
        </p:xfrm>
        <a:graphic>
          <a:graphicData uri="http://schemas.openxmlformats.org/drawingml/2006/table">
            <a:tbl>
              <a:tblPr/>
              <a:tblGrid>
                <a:gridCol w="4786560"/>
                <a:gridCol w="1106280"/>
                <a:gridCol w="1130400"/>
                <a:gridCol w="118908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3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S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B658406-8BB2-40C2-88B1-33FFEE558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37" name="Picture 2" descr="D:\Projects\HS0\RTL8390\real_chip\20130315\CLK_CAS#_tIS.jpg"/>
          <p:cNvPicPr/>
          <p:nvPr/>
        </p:nvPicPr>
        <p:blipFill>
          <a:blip r:embed="rId1"/>
          <a:stretch/>
        </p:blipFill>
        <p:spPr>
          <a:xfrm>
            <a:off x="1643040" y="142884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38" name="文字方塊 7"/>
          <p:cNvSpPr/>
          <p:nvPr/>
        </p:nvSpPr>
        <p:spPr>
          <a:xfrm>
            <a:off x="642960" y="25002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9" name="文字方塊 8"/>
          <p:cNvSpPr/>
          <p:nvPr/>
        </p:nvSpPr>
        <p:spPr>
          <a:xfrm>
            <a:off x="928800" y="39164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0" name="矩形 9"/>
          <p:cNvSpPr/>
          <p:nvPr/>
        </p:nvSpPr>
        <p:spPr>
          <a:xfrm>
            <a:off x="6572160" y="371484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1" name="文字方塊 11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setup time valu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H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0964D0C-B2F5-40BB-AA13-E611B4320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47" name="Picture 2" descr="D:\Projects\HS0\RTL8390\real_chip\20130315\CLK_CAS#_tIH.jpg"/>
          <p:cNvPicPr/>
          <p:nvPr/>
        </p:nvPicPr>
        <p:blipFill>
          <a:blip r:embed="rId1"/>
          <a:stretch/>
        </p:blipFill>
        <p:spPr>
          <a:xfrm>
            <a:off x="1857240" y="14288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348" name="文字方塊 12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9" name="文字方塊 13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0" name="矩形 14"/>
          <p:cNvSpPr/>
          <p:nvPr/>
        </p:nvSpPr>
        <p:spPr>
          <a:xfrm>
            <a:off x="6786720" y="3714840"/>
            <a:ext cx="92844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1" name="文字方塊 15"/>
          <p:cNvSpPr/>
          <p:nvPr/>
        </p:nvSpPr>
        <p:spPr>
          <a:xfrm>
            <a:off x="3500280" y="478620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hold tim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71424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configuration and do software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check result is su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2106644-F398-4B0E-B66C-D3D4F6770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57" name="Picture 14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6334200" cy="4162320"/>
          </a:xfrm>
          <a:prstGeom prst="rect">
            <a:avLst/>
          </a:prstGeom>
          <a:ln w="0">
            <a:noFill/>
          </a:ln>
        </p:spPr>
      </p:pic>
      <p:sp>
        <p:nvSpPr>
          <p:cNvPr id="358" name="文字方塊 10"/>
          <p:cNvSpPr/>
          <p:nvPr/>
        </p:nvSpPr>
        <p:spPr>
          <a:xfrm>
            <a:off x="2571840" y="4929120"/>
            <a:ext cx="52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1. check result is success here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2. check frequency is correct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59" name="直線單箭頭接點 16"/>
          <p:cNvCxnSpPr>
            <a:endCxn id="358" idx="1"/>
          </p:cNvCxnSpPr>
          <p:nvPr/>
        </p:nvCxnSpPr>
        <p:spPr>
          <a:xfrm>
            <a:off x="2286000" y="5214960"/>
            <a:ext cx="286560" cy="1310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60" name="矩形 19"/>
          <p:cNvSpPr/>
          <p:nvPr/>
        </p:nvSpPr>
        <p:spPr>
          <a:xfrm>
            <a:off x="285840" y="5000760"/>
            <a:ext cx="2071440" cy="85716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361" name="群組 15"/>
          <p:cNvGrpSpPr/>
          <p:nvPr/>
        </p:nvGrpSpPr>
        <p:grpSpPr>
          <a:xfrm>
            <a:off x="6929280" y="2071800"/>
            <a:ext cx="2009880" cy="2643120"/>
            <a:chOff x="6929280" y="2071800"/>
            <a:chExt cx="2009880" cy="2643120"/>
          </a:xfrm>
        </p:grpSpPr>
        <p:sp>
          <p:nvSpPr>
            <p:cNvPr id="362" name="圓角矩形 24"/>
            <p:cNvSpPr/>
            <p:nvPr/>
          </p:nvSpPr>
          <p:spPr>
            <a:xfrm>
              <a:off x="6929280" y="207180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3" name="圓角矩形 25"/>
            <p:cNvSpPr/>
            <p:nvPr/>
          </p:nvSpPr>
          <p:spPr>
            <a:xfrm>
              <a:off x="6929280" y="26431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4" name="圓角矩形 26"/>
            <p:cNvSpPr/>
            <p:nvPr/>
          </p:nvSpPr>
          <p:spPr>
            <a:xfrm>
              <a:off x="6929280" y="378648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5" name="向下箭號 27"/>
            <p:cNvSpPr/>
            <p:nvPr/>
          </p:nvSpPr>
          <p:spPr>
            <a:xfrm>
              <a:off x="7812000" y="2490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6" name="向下箭號 28"/>
            <p:cNvSpPr/>
            <p:nvPr/>
          </p:nvSpPr>
          <p:spPr>
            <a:xfrm>
              <a:off x="7812000" y="30304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7" name="圓角矩形 29"/>
            <p:cNvSpPr/>
            <p:nvPr/>
          </p:nvSpPr>
          <p:spPr>
            <a:xfrm>
              <a:off x="6933960" y="32148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8" name="向下箭號 30"/>
            <p:cNvSpPr/>
            <p:nvPr/>
          </p:nvSpPr>
          <p:spPr>
            <a:xfrm>
              <a:off x="7810200" y="36147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9" name="圓角矩形 15"/>
            <p:cNvSpPr/>
            <p:nvPr/>
          </p:nvSpPr>
          <p:spPr>
            <a:xfrm>
              <a:off x="6929280" y="43927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70" name="向下箭號 32"/>
            <p:cNvSpPr/>
            <p:nvPr/>
          </p:nvSpPr>
          <p:spPr>
            <a:xfrm>
              <a:off x="7810200" y="4214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READ Window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7BF5CC1-12F3-4048-96A9-3B2613F0B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4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5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6276960" cy="3876840"/>
          </a:xfrm>
          <a:prstGeom prst="rect">
            <a:avLst/>
          </a:prstGeom>
          <a:ln w="0">
            <a:noFill/>
          </a:ln>
        </p:spPr>
      </p:pic>
      <p:sp>
        <p:nvSpPr>
          <p:cNvPr id="377" name="矩形 7"/>
          <p:cNvSpPr/>
          <p:nvPr/>
        </p:nvSpPr>
        <p:spPr>
          <a:xfrm>
            <a:off x="571680" y="2428920"/>
            <a:ext cx="4929120" cy="12859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8" name="內容版面配置區 2"/>
          <p:cNvSpPr/>
          <p:nvPr/>
        </p:nvSpPr>
        <p:spPr>
          <a:xfrm>
            <a:off x="5572080" y="2276640"/>
            <a:ext cx="3286080" cy="345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cted DQ READ Window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1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2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3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4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0x0015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9" name="圓角矩形圖說文字 236"/>
          <p:cNvSpPr/>
          <p:nvPr/>
        </p:nvSpPr>
        <p:spPr>
          <a:xfrm>
            <a:off x="500040" y="5214960"/>
            <a:ext cx="4857840" cy="1071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hclk/dqs1_en_hcl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tap/dqs1_en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group_tap/dqs1_group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0" name="文字方塊 15"/>
          <p:cNvSpPr/>
          <p:nvPr/>
        </p:nvSpPr>
        <p:spPr>
          <a:xfrm>
            <a:off x="3143160" y="385776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READ Window information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1" name="矩形 7"/>
          <p:cNvSpPr/>
          <p:nvPr/>
        </p:nvSpPr>
        <p:spPr>
          <a:xfrm>
            <a:off x="1500120" y="242892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set dram dqs0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en_tap 0x7 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tap 0x7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A2DBDEE-E8CE-483C-B1B1-CE1BE2AA9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642960" y="1343160"/>
            <a:ext cx="4943520" cy="1514520"/>
          </a:xfrm>
          <a:prstGeom prst="rect">
            <a:avLst/>
          </a:prstGeom>
          <a:ln w="0">
            <a:noFill/>
          </a:ln>
        </p:spPr>
      </p:pic>
      <p:sp>
        <p:nvSpPr>
          <p:cNvPr id="388" name="矩形 13"/>
          <p:cNvSpPr/>
          <p:nvPr/>
        </p:nvSpPr>
        <p:spPr>
          <a:xfrm>
            <a:off x="642960" y="2128680"/>
            <a:ext cx="4929120" cy="71460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9" name="矩形 13"/>
          <p:cNvSpPr/>
          <p:nvPr/>
        </p:nvSpPr>
        <p:spPr>
          <a:xfrm>
            <a:off x="5357880" y="2109960"/>
            <a:ext cx="285840" cy="7142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both rising and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F498F4A-5243-4B99-9B2C-F7AC4F4D0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4943520" cy="1495080"/>
          </a:xfrm>
          <a:prstGeom prst="rect">
            <a:avLst/>
          </a:prstGeom>
          <a:ln w="0">
            <a:noFill/>
          </a:ln>
        </p:spPr>
      </p:pic>
      <p:sp>
        <p:nvSpPr>
          <p:cNvPr id="396" name="矩形 11"/>
          <p:cNvSpPr/>
          <p:nvPr/>
        </p:nvSpPr>
        <p:spPr>
          <a:xfrm>
            <a:off x="642960" y="1714680"/>
            <a:ext cx="4929120" cy="15001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5357880" y="1714680"/>
            <a:ext cx="285840" cy="15001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restore current DRAM parame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0076F98-FBAE-4C0B-B224-A39FAF952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3" name="矩形 6"/>
          <p:cNvSpPr/>
          <p:nvPr/>
        </p:nvSpPr>
        <p:spPr>
          <a:xfrm>
            <a:off x="642960" y="1200240"/>
            <a:ext cx="23572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show dram_info  -u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404" name="群組 15"/>
          <p:cNvGrpSpPr/>
          <p:nvPr/>
        </p:nvGrpSpPr>
        <p:grpSpPr>
          <a:xfrm>
            <a:off x="6991200" y="1285920"/>
            <a:ext cx="2009880" cy="2643120"/>
            <a:chOff x="6991200" y="1285920"/>
            <a:chExt cx="2009880" cy="2643120"/>
          </a:xfrm>
        </p:grpSpPr>
        <p:sp>
          <p:nvSpPr>
            <p:cNvPr id="405" name="圓角矩形 14"/>
            <p:cNvSpPr/>
            <p:nvPr/>
          </p:nvSpPr>
          <p:spPr>
            <a:xfrm>
              <a:off x="6991200" y="128592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6" name="圓角矩形 15"/>
            <p:cNvSpPr/>
            <p:nvPr/>
          </p:nvSpPr>
          <p:spPr>
            <a:xfrm>
              <a:off x="699120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7" name="圓角矩形 16"/>
            <p:cNvSpPr/>
            <p:nvPr/>
          </p:nvSpPr>
          <p:spPr>
            <a:xfrm>
              <a:off x="6991200" y="30006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8" name="向下箭號 17"/>
            <p:cNvSpPr/>
            <p:nvPr/>
          </p:nvSpPr>
          <p:spPr>
            <a:xfrm>
              <a:off x="7873920" y="17049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9" name="向下箭號 18"/>
            <p:cNvSpPr/>
            <p:nvPr/>
          </p:nvSpPr>
          <p:spPr>
            <a:xfrm>
              <a:off x="7873920" y="22446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0" name="圓角矩形 19"/>
            <p:cNvSpPr/>
            <p:nvPr/>
          </p:nvSpPr>
          <p:spPr>
            <a:xfrm>
              <a:off x="699588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1" name="向下箭號 20"/>
            <p:cNvSpPr/>
            <p:nvPr/>
          </p:nvSpPr>
          <p:spPr>
            <a:xfrm>
              <a:off x="7872120" y="2828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2" name="圓角矩形 15"/>
            <p:cNvSpPr/>
            <p:nvPr/>
          </p:nvSpPr>
          <p:spPr>
            <a:xfrm>
              <a:off x="6991200" y="36068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 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3" name="向下箭號 22"/>
            <p:cNvSpPr/>
            <p:nvPr/>
          </p:nvSpPr>
          <p:spPr>
            <a:xfrm>
              <a:off x="7872120" y="34290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pic>
        <p:nvPicPr>
          <p:cNvPr id="414" name="Picture 20" descr=""/>
          <p:cNvPicPr/>
          <p:nvPr/>
        </p:nvPicPr>
        <p:blipFill>
          <a:blip r:embed="rId1"/>
          <a:stretch/>
        </p:blipFill>
        <p:spPr>
          <a:xfrm>
            <a:off x="3357720" y="1357200"/>
            <a:ext cx="3038400" cy="500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ing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exit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enter u-Boot and do memory test by u-Boot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mdram_tes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7DA759B-442D-4715-97B8-CE90A6099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0" name="文字方塊 19"/>
          <p:cNvSpPr/>
          <p:nvPr/>
        </p:nvSpPr>
        <p:spPr>
          <a:xfrm>
            <a:off x="4500720" y="56437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“mdram_test” to do memory tes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1" name="直線單箭頭接點 20"/>
          <p:cNvCxnSpPr>
            <a:stCxn id="422" idx="2"/>
            <a:endCxn id="420" idx="1"/>
          </p:cNvCxnSpPr>
          <p:nvPr/>
        </p:nvCxnSpPr>
        <p:spPr>
          <a:xfrm>
            <a:off x="4106880" y="5500800"/>
            <a:ext cx="394560" cy="32760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grpSp>
        <p:nvGrpSpPr>
          <p:cNvPr id="423" name="群組 29"/>
          <p:cNvGrpSpPr/>
          <p:nvPr/>
        </p:nvGrpSpPr>
        <p:grpSpPr>
          <a:xfrm>
            <a:off x="428760" y="1785960"/>
            <a:ext cx="7362720" cy="3724200"/>
            <a:chOff x="428760" y="1785960"/>
            <a:chExt cx="7362720" cy="3724200"/>
          </a:xfrm>
        </p:grpSpPr>
        <p:pic>
          <p:nvPicPr>
            <p:cNvPr id="424" name="Picture 3" descr="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7362720" cy="37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" descr=""/>
            <p:cNvPicPr/>
            <p:nvPr/>
          </p:nvPicPr>
          <p:blipFill>
            <a:blip r:embed="rId2"/>
            <a:stretch/>
          </p:blipFill>
          <p:spPr>
            <a:xfrm>
              <a:off x="1204920" y="4676760"/>
              <a:ext cx="866520" cy="19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矩形 31"/>
          <p:cNvSpPr/>
          <p:nvPr/>
        </p:nvSpPr>
        <p:spPr>
          <a:xfrm>
            <a:off x="428760" y="4714920"/>
            <a:ext cx="735804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6" name="文字方塊 33"/>
          <p:cNvSpPr/>
          <p:nvPr/>
        </p:nvSpPr>
        <p:spPr>
          <a:xfrm>
            <a:off x="6286680" y="16430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1. “exit” to enter u-Boo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7" name="直線單箭頭接點 34"/>
          <p:cNvCxnSpPr>
            <a:stCxn id="428" idx="3"/>
            <a:endCxn id="426" idx="1"/>
          </p:cNvCxnSpPr>
          <p:nvPr/>
        </p:nvCxnSpPr>
        <p:spPr>
          <a:xfrm flipV="1">
            <a:off x="6000840" y="1827000"/>
            <a:ext cx="286560" cy="3513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28" name="矩形 35"/>
          <p:cNvSpPr/>
          <p:nvPr/>
        </p:nvSpPr>
        <p:spPr>
          <a:xfrm>
            <a:off x="428760" y="1785960"/>
            <a:ext cx="557208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9" name="文字方塊 19"/>
          <p:cNvSpPr/>
          <p:nvPr/>
        </p:nvSpPr>
        <p:spPr>
          <a:xfrm>
            <a:off x="49291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check frequency and siz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30" name="直線單箭頭接點 16"/>
          <p:cNvCxnSpPr>
            <a:stCxn id="431" idx="3"/>
            <a:endCxn id="429" idx="1"/>
          </p:cNvCxnSpPr>
          <p:nvPr/>
        </p:nvCxnSpPr>
        <p:spPr>
          <a:xfrm>
            <a:off x="4500720" y="3465360"/>
            <a:ext cx="429120" cy="57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31" name="矩形 31"/>
          <p:cNvSpPr/>
          <p:nvPr/>
        </p:nvSpPr>
        <p:spPr>
          <a:xfrm>
            <a:off x="428760" y="3214800"/>
            <a:ext cx="4071960" cy="5000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memory test is pa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py previous DRAM parameters in step 5-1, and paste t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oc_init_parameters.c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replace original paramet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923133E-4E98-4BD9-87FA-2DADB1ED4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14240" y="3425760"/>
            <a:ext cx="5362560" cy="1562040"/>
          </a:xfrm>
          <a:prstGeom prst="rect">
            <a:avLst/>
          </a:prstGeom>
          <a:ln w="0">
            <a:noFill/>
          </a:ln>
        </p:spPr>
      </p:pic>
      <p:sp>
        <p:nvSpPr>
          <p:cNvPr id="438" name="矩形 9"/>
          <p:cNvSpPr/>
          <p:nvPr/>
        </p:nvSpPr>
        <p:spPr>
          <a:xfrm>
            <a:off x="1357200" y="375444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9" name="文字方塊 10"/>
          <p:cNvSpPr/>
          <p:nvPr/>
        </p:nvSpPr>
        <p:spPr>
          <a:xfrm>
            <a:off x="6643800" y="34974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1. Comment this lin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0" name="矩形 11"/>
          <p:cNvSpPr/>
          <p:nvPr/>
        </p:nvSpPr>
        <p:spPr>
          <a:xfrm>
            <a:off x="1357200" y="397836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1" name="直線單箭頭接點 13"/>
          <p:cNvCxnSpPr>
            <a:stCxn id="438" idx="3"/>
            <a:endCxn id="439" idx="1"/>
          </p:cNvCxnSpPr>
          <p:nvPr/>
        </p:nvCxnSpPr>
        <p:spPr>
          <a:xfrm flipV="1">
            <a:off x="5571720" y="3681000"/>
            <a:ext cx="107244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文字方塊 16"/>
          <p:cNvSpPr/>
          <p:nvPr/>
        </p:nvSpPr>
        <p:spPr>
          <a:xfrm>
            <a:off x="3286080" y="5286240"/>
            <a:ext cx="51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2.  Paste DRAM dump parameters her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3.  Suggest to record DRAM frequency as a commen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3" name="直線單箭頭接點 17"/>
          <p:cNvCxnSpPr>
            <a:stCxn id="440" idx="2"/>
            <a:endCxn id="442" idx="0"/>
          </p:cNvCxnSpPr>
          <p:nvPr/>
        </p:nvCxnSpPr>
        <p:spPr>
          <a:xfrm>
            <a:off x="3463920" y="4192560"/>
            <a:ext cx="239472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矩形 14"/>
          <p:cNvSpPr/>
          <p:nvPr/>
        </p:nvSpPr>
        <p:spPr>
          <a:xfrm>
            <a:off x="577440" y="3071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soc_init_parameters.c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Outlin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alibri"/>
              </a:rPr>
              <a:t>DRAM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Pre-Configur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DDR Pad Set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WRITE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READ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Memory Test and Restore Confi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3E8138A-E771-44B1-B4B3-06CB0479E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4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5DDF0C4-D2FB-46E8-88E0-3BBAD3A31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42920" y="714240"/>
          <a:ext cx="8858160" cy="5139000"/>
        </p:xfrm>
        <a:graphic>
          <a:graphicData uri="http://schemas.openxmlformats.org/drawingml/2006/table">
            <a:tbl>
              <a:tblPr/>
              <a:tblGrid>
                <a:gridCol w="3071880"/>
                <a:gridCol w="4357440"/>
                <a:gridCol w="1428840"/>
              </a:tblGrid>
              <a:tr h="60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size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buswid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tl_odt_o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T: 24/25/30/40/50/60/75/80/100/150/160/200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D: 48/50/60/80/100/120/150/160/200/300/320/4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x_clk_phs_delay 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90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_wr_delay_(0~15)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m0/dqm1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odt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/50/75/150, DDR3: 0/20/30/40/60/12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rtt_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/60/120,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drv_streng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: normal, 1: reduc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: 40 ohm, 1: 34 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0BFD306-74F7-4627-9945-E3F2A8563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214200" y="714240"/>
          <a:ext cx="8786880" cy="516420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: disable, 1: en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dram_setup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&lt;dram_info|pll_info&gt; [-u|-p|-v]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p: preloader type, -u: TCL type, -v: verbose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init_resul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write_pattern &lt;times&gt; &lt;pattern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tern: &lt;4 bytes string in Hex&gt;, ex: 0xFF00FF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read_pattern &lt;times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&lt;dram|pll&gt; &lt;parameter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mem-clk&gt; &lt;lx-clk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dsp-clk&gt; &lt;mem-clk&gt; &lt;lx-clk&gt;    </a:t>
                      </a: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* if DSP exis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 to  </a:t>
                      </a:r>
                      <a:r>
                        <a:rPr b="0" lang="en-US" sz="1400" spc="-1" strike="noStrike" u="sng">
                          <a:solidFill>
                            <a:srgbClr val="0033cc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Appendix. Suggested PLL Rang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z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48BF1D4-746E-48D0-B224-494442B18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14200" y="714240"/>
          <a:ext cx="8786880" cy="409752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500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24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~1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wl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8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t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t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r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fawg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3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3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_unit &lt;value&gt;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/2048/409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fc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25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2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6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Suggested PLL range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675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5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 Note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9x, 835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400~7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~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Note: CPU, LX: each frequency step is 5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emory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8x, 833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300, 5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93, 3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C7A42E9-02E2-45C4-A88D-0742A41A5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Flow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0D8394E-2360-4A48-94F4-3A79164D4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3" name="文字方塊 30"/>
          <p:cNvSpPr/>
          <p:nvPr/>
        </p:nvSpPr>
        <p:spPr>
          <a:xfrm>
            <a:off x="142920" y="785880"/>
            <a:ext cx="36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DR bring up configuration flow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74" name="群組 15"/>
          <p:cNvGrpSpPr/>
          <p:nvPr/>
        </p:nvGrpSpPr>
        <p:grpSpPr>
          <a:xfrm>
            <a:off x="2714760" y="1285920"/>
            <a:ext cx="3714480" cy="3929040"/>
            <a:chOff x="2714760" y="1285920"/>
            <a:chExt cx="3714480" cy="3929040"/>
          </a:xfrm>
        </p:grpSpPr>
        <p:sp>
          <p:nvSpPr>
            <p:cNvPr id="75" name="圓角矩形 6"/>
            <p:cNvSpPr/>
            <p:nvPr/>
          </p:nvSpPr>
          <p:spPr>
            <a:xfrm>
              <a:off x="2714760" y="1285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2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6" name="圓角矩形 7"/>
            <p:cNvSpPr/>
            <p:nvPr/>
          </p:nvSpPr>
          <p:spPr>
            <a:xfrm>
              <a:off x="2714760" y="214308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7" name="圓角矩形 9"/>
            <p:cNvSpPr/>
            <p:nvPr/>
          </p:nvSpPr>
          <p:spPr>
            <a:xfrm>
              <a:off x="2714760" y="385776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8" name="向下箭號 10"/>
            <p:cNvSpPr/>
            <p:nvPr/>
          </p:nvSpPr>
          <p:spPr>
            <a:xfrm>
              <a:off x="4281480" y="185724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9" name="向下箭號 11"/>
            <p:cNvSpPr/>
            <p:nvPr/>
          </p:nvSpPr>
          <p:spPr>
            <a:xfrm>
              <a:off x="4286160" y="271476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0" name="圓角矩形 13"/>
            <p:cNvSpPr/>
            <p:nvPr/>
          </p:nvSpPr>
          <p:spPr>
            <a:xfrm>
              <a:off x="2714760" y="300024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1" name="向下箭號 14"/>
            <p:cNvSpPr/>
            <p:nvPr/>
          </p:nvSpPr>
          <p:spPr>
            <a:xfrm>
              <a:off x="4286160" y="357192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2" name="圓角矩形 15"/>
            <p:cNvSpPr/>
            <p:nvPr/>
          </p:nvSpPr>
          <p:spPr>
            <a:xfrm>
              <a:off x="2714760" y="4714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3" name="向下箭號 16"/>
            <p:cNvSpPr/>
            <p:nvPr/>
          </p:nvSpPr>
          <p:spPr>
            <a:xfrm>
              <a:off x="4286160" y="442908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785880"/>
            <a:ext cx="8686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 Preloader C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s ‘.’ to trigger CLI before entry u-bo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56B205E-C4E0-470C-852A-24A12828B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28800" y="1725480"/>
            <a:ext cx="5715000" cy="400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Preloader Configuration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configuration with dram/pll set comm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*Note: more commands and related available value, please reference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alibri"/>
                <a:hlinkClick r:id="rId1" action="ppaction://hlinksldjump"/>
              </a:rPr>
              <a:t>Appendix. Command List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 and re-do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ave_pa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ave current configuration back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how dram_inf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how current DRAM configuration, not configuration in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6D0E095-AA35-4AA9-A01E-08505166A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quency Mod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fore DRAM bring up, DRAM frequency need to be che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frequency need to be modified, using pll set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do following steps 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PLL configuration: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DRAM configuration: 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A385222-BC77-4EFB-B7EF-6D181E7D1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0" name="圓角矩形圖說文字 236"/>
          <p:cNvSpPr/>
          <p:nvPr/>
        </p:nvSpPr>
        <p:spPr>
          <a:xfrm>
            <a:off x="1428840" y="1500120"/>
            <a:ext cx="3000240" cy="150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em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lx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sp_clk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*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if DSP exist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1" name="圓角矩形圖說文字 236"/>
          <p:cNvSpPr/>
          <p:nvPr/>
        </p:nvSpPr>
        <p:spPr>
          <a:xfrm>
            <a:off x="1428840" y="3400560"/>
            <a:ext cx="6072120" cy="10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mem_clk&gt; &lt;lx_clk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dsp_clk&gt;&lt;mem_clk&gt; &lt;lx_clk&gt; 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*if DSP exis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2" name="圓角矩形圖說文字 236"/>
          <p:cNvSpPr/>
          <p:nvPr/>
        </p:nvSpPr>
        <p:spPr>
          <a:xfrm>
            <a:off x="1000080" y="5643720"/>
            <a:ext cx="650088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, DSP, memory  and LX related frequency could be  found in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Impact"/>
              </a:rPr>
              <a:t>CPU &amp; Memory Controller Datasheet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or</a:t>
            </a: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Impact"/>
                <a:hlinkClick r:id="rId1" action="ppaction://hlinksldjump"/>
              </a:rPr>
              <a:t>Appendix . Suggested PLL Rang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Size and Bus Wid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9226ED7-277E-42AF-ABED-1D5515DC3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8" name="圓角矩形圖說文字 236"/>
          <p:cNvSpPr/>
          <p:nvPr/>
        </p:nvSpPr>
        <p:spPr>
          <a:xfrm>
            <a:off x="714240" y="1428840"/>
            <a:ext cx="2857680" cy="92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buswid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size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09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10" name="圓角矩形 6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ffb0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1" name="圓角矩形 7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2" name="圓角矩形 8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3" name="向下箭號 9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4" name="向下箭號 10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5" name="圓角矩形 11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6" name="向下箭號 12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7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8" name="向下箭號 14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19" name="矩形 17"/>
          <p:cNvSpPr/>
          <p:nvPr/>
        </p:nvSpPr>
        <p:spPr>
          <a:xfrm>
            <a:off x="500040" y="4071960"/>
            <a:ext cx="8072640" cy="1465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DR3 NANYA NT5CB128MHP: </a:t>
            </a:r>
            <a:r>
              <a:rPr b="0" lang="en-US" sz="1800" spc="-1" strike="noStrike">
                <a:solidFill>
                  <a:srgbClr val="0033cc"/>
                </a:solidFill>
                <a:latin typeface="Calibri"/>
              </a:rPr>
              <a:t>256MB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Bus Width=16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buswidth 1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size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AC Ti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CAS, tWR, tCWL, tRTP, tWTR, tREF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P, tRCD, tRRD, tFAW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FC, t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Note: 1. pre-calibration tool will apply a safe DT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configuration, or user can find out bet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arameters according to DRAM datashe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2. please reference next page for how to fi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those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C88B0F3-AAD8-42F4-B265-6485FADEA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357120" y="4143240"/>
            <a:ext cx="807264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If DRAM frequency is 300MHz, 1 tCLK= 3.3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RD minimum requirement is 7.5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RD = 3 tCLK = 10ns &gt; 7.5 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rd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EF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EFI minimum requirement is 7.8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using tREFI = 3072 tCLK = 12*256 tCLK= 10.1 us &gt; 7.8 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 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 and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_unit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6" name="圓角矩形圖說文字 236"/>
          <p:cNvSpPr/>
          <p:nvPr/>
        </p:nvSpPr>
        <p:spPr>
          <a:xfrm>
            <a:off x="6286680" y="642960"/>
            <a:ext cx="2500200" cy="3714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wl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t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t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_unit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r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fawg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fc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t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8:00:17Z</dcterms:created>
  <dc:creator>Vic Hung</dc:creator>
  <dc:description/>
  <dc:language>en-US</dc:language>
  <cp:lastModifiedBy>alexhung</cp:lastModifiedBy>
  <dcterms:modified xsi:type="dcterms:W3CDTF">2013-06-10T08:00:44Z</dcterms:modified>
  <cp:revision>3400</cp:revision>
  <dc:subject/>
  <dc:title>8328SI Feature</dc:title>
</cp:coreProperties>
</file>