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99300" cy="10234613"/>
  <p:custShowLst>
    <p:custShow name="ACL Spec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E5D2-EF57-4492-A509-59FF380DD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投影片編號版面配置區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42F1-AC5F-4423-BB55-F9C2D19FF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2A55-7855-4C1B-983A-66CF398B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6971-19CE-491B-BA1E-E68BD799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D66E-751E-4F33-9C7C-9B3BDF6C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9140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36604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58A9E-F0A2-4819-A102-5E5190B2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5617-6B1E-4DB1-B3A6-92B3C05B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E0DA-FA7E-40E3-8AF7-EB571BA3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B8696-F920-4C18-B70C-31A4008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1649-4818-464B-9418-1CF9EBAD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763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9DFCD-D3FB-48CE-9C2C-374C127A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BE16-C293-4823-BCC4-C0872BAC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36604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E2C1A-3E3F-4143-9DA0-8FA2F1CF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9140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970A-2C86-499C-A9D3-9AA36EC6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844E7FE7-4A01-4B90-83DA-67B4AC07D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2"/>
          </p:nvPr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56160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7772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B8799D9-EFCE-4F01-AEFB-4FA737075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alibri"/>
              </a:rPr>
              <a:t>DRAM BRING UP</a:t>
            </a:r>
            <a:br>
              <a:rPr sz="4000"/>
            </a:br>
            <a:r>
              <a:rPr b="1" lang="en-US" sz="2800" spc="-1" strike="noStrike">
                <a:solidFill>
                  <a:srgbClr val="333399"/>
                </a:solidFill>
                <a:latin typeface="Calibri"/>
              </a:rPr>
              <a:t>CONFIGURATION</a:t>
            </a:r>
            <a:endParaRPr b="1" lang="en-US" sz="2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a-Liang Hu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hung@realtek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7573211-0631-4E18-AFF6-33A04E620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5840" y="785880"/>
            <a:ext cx="8686800" cy="428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 to find DTR parameters requirement in DRAM Datashe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2" descr=""/>
          <p:cNvPicPr/>
          <p:nvPr/>
        </p:nvPicPr>
        <p:blipFill>
          <a:blip r:embed="rId1"/>
          <a:stretch/>
        </p:blipFill>
        <p:spPr>
          <a:xfrm>
            <a:off x="428760" y="3214800"/>
            <a:ext cx="7500960" cy="208728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2"/>
          <p:cNvSpPr/>
          <p:nvPr/>
        </p:nvSpPr>
        <p:spPr>
          <a:xfrm>
            <a:off x="6996240" y="2585880"/>
            <a:ext cx="2071440" cy="337320"/>
          </a:xfrm>
          <a:prstGeom prst="rect">
            <a:avLst/>
          </a:prstGeom>
          <a:solidFill>
            <a:srgbClr val="ffffcc"/>
          </a:solidFill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Impact"/>
              </a:rPr>
              <a:t>4. Notice the unit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4" name="文字方塊 14"/>
          <p:cNvSpPr/>
          <p:nvPr/>
        </p:nvSpPr>
        <p:spPr>
          <a:xfrm>
            <a:off x="4818240" y="1870200"/>
            <a:ext cx="32144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3. Find the requirement value here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5" name="文字方塊 15"/>
          <p:cNvSpPr/>
          <p:nvPr/>
        </p:nvSpPr>
        <p:spPr>
          <a:xfrm>
            <a:off x="214200" y="1428840"/>
            <a:ext cx="2357640" cy="824040"/>
          </a:xfrm>
          <a:prstGeom prst="rect">
            <a:avLst/>
          </a:prstGeom>
          <a:solidFill>
            <a:srgbClr val="ffffcc"/>
          </a:solidFill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33"/>
                </a:solidFill>
                <a:latin typeface="Impact"/>
              </a:rPr>
              <a:t>1. find AC Timing Table in DRAM datashee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6" name="文字方塊 18"/>
          <p:cNvSpPr/>
          <p:nvPr/>
        </p:nvSpPr>
        <p:spPr>
          <a:xfrm>
            <a:off x="2786040" y="1428840"/>
            <a:ext cx="3857760" cy="580680"/>
          </a:xfrm>
          <a:prstGeom prst="rect">
            <a:avLst/>
          </a:prstGeom>
          <a:solidFill>
            <a:srgbClr val="ffffcc"/>
          </a:solidFill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2. Using DTR related parameter as keywor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7" name="圓角矩形 18"/>
          <p:cNvSpPr/>
          <p:nvPr/>
        </p:nvSpPr>
        <p:spPr>
          <a:xfrm>
            <a:off x="3000240" y="3143160"/>
            <a:ext cx="857520" cy="2214720"/>
          </a:xfrm>
          <a:custGeom>
            <a:avLst/>
            <a:gdLst>
              <a:gd name="textAreaLeft" fmla="*/ 41760 w 857520"/>
              <a:gd name="textAreaRight" fmla="*/ 815760 w 857520"/>
              <a:gd name="textAreaTop" fmla="*/ 41760 h 2214720"/>
              <a:gd name="textAreaBottom" fmla="*/ 2172960 h 2214720"/>
            </a:gdLst>
            <a:ahLst/>
            <a:rect l="textAreaLeft" t="textAreaTop" r="textAreaRight" b="textAreaBottom"/>
            <a:pathLst>
              <a:path w="21600" h="55772">
                <a:moveTo>
                  <a:pt x="3600" y="0"/>
                </a:moveTo>
                <a:arcTo wR="3600" hR="3600" stAng="16200000" swAng="-5400000"/>
                <a:lnTo>
                  <a:pt x="0" y="52172"/>
                </a:lnTo>
                <a:arcTo wR="3600" hR="3600" stAng="10800000" swAng="-5400000"/>
                <a:lnTo>
                  <a:pt x="18000" y="557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8" name="圓角矩形 18"/>
          <p:cNvSpPr/>
          <p:nvPr/>
        </p:nvSpPr>
        <p:spPr>
          <a:xfrm>
            <a:off x="3929040" y="3143160"/>
            <a:ext cx="3214800" cy="228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39" name="圓角矩形 18"/>
          <p:cNvSpPr/>
          <p:nvPr/>
        </p:nvSpPr>
        <p:spPr>
          <a:xfrm>
            <a:off x="7143840" y="3143160"/>
            <a:ext cx="642960" cy="2286000"/>
          </a:xfrm>
          <a:custGeom>
            <a:avLst/>
            <a:gdLst>
              <a:gd name="textAreaLeft" fmla="*/ 31320 w 642960"/>
              <a:gd name="textAreaRight" fmla="*/ 611640 w 642960"/>
              <a:gd name="textAreaTop" fmla="*/ 31320 h 2286000"/>
              <a:gd name="textAreaBottom" fmla="*/ 2254680 h 2286000"/>
            </a:gdLst>
            <a:ahLst/>
            <a:rect l="textAreaLeft" t="textAreaTop" r="textAreaRight" b="textAreaBottom"/>
            <a:pathLst>
              <a:path w="21600" h="76766">
                <a:moveTo>
                  <a:pt x="3600" y="0"/>
                </a:moveTo>
                <a:arcTo wR="3600" hR="3600" stAng="16200000" swAng="-5400000"/>
                <a:lnTo>
                  <a:pt x="0" y="73166"/>
                </a:lnTo>
                <a:arcTo wR="3600" hR="3600" stAng="10800000" swAng="-5400000"/>
                <a:lnTo>
                  <a:pt x="18000" y="767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73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0" name="直線單箭頭接點 19"/>
          <p:cNvCxnSpPr>
            <a:stCxn id="136" idx="2"/>
            <a:endCxn id="137" idx="0"/>
          </p:cNvCxnSpPr>
          <p:nvPr/>
        </p:nvCxnSpPr>
        <p:spPr>
          <a:xfrm rot="5400000">
            <a:off x="3383280" y="1811880"/>
            <a:ext cx="1377000" cy="1286640"/>
          </a:xfrm>
          <a:prstGeom prst="bentConnector3">
            <a:avLst>
              <a:gd name="adj1" fmla="val 50000"/>
            </a:avLst>
          </a:prstGeom>
          <a:ln w="28440">
            <a:solidFill>
              <a:srgbClr val="0033cc"/>
            </a:solidFill>
            <a:prstDash val="dash"/>
            <a:round/>
            <a:tailEnd len="med" type="arrow" w="med"/>
          </a:ln>
        </p:spPr>
      </p:cxnSp>
      <p:sp>
        <p:nvSpPr>
          <p:cNvPr id="141" name="矩形 38"/>
          <p:cNvSpPr/>
          <p:nvPr/>
        </p:nvSpPr>
        <p:spPr>
          <a:xfrm>
            <a:off x="571680" y="2857680"/>
            <a:ext cx="28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Impact"/>
              </a:rPr>
              <a:t>(Source is from NANYA DRAM DataSheet</a:t>
            </a:r>
            <a:endParaRPr b="0" lang="en-US" sz="10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142" name="直線單箭頭接點 19"/>
          <p:cNvCxnSpPr>
            <a:stCxn id="135" idx="2"/>
            <a:endCxn id="141" idx="1"/>
          </p:cNvCxnSpPr>
          <p:nvPr/>
        </p:nvCxnSpPr>
        <p:spPr>
          <a:xfrm rot="5400000">
            <a:off x="497160" y="2086560"/>
            <a:ext cx="968760" cy="821160"/>
          </a:xfrm>
          <a:prstGeom prst="bentConnector4">
            <a:avLst>
              <a:gd name="adj1" fmla="val 43605"/>
              <a:gd name="adj2" fmla="val 127807"/>
            </a:avLst>
          </a:prstGeom>
          <a:ln w="28440">
            <a:solidFill>
              <a:srgbClr val="339933"/>
            </a:solidFill>
            <a:prstDash val="dash"/>
            <a:round/>
            <a:tailEnd len="med" type="arrow" w="med"/>
          </a:ln>
        </p:spPr>
      </p:cxnSp>
      <p:cxnSp>
        <p:nvCxnSpPr>
          <p:cNvPr id="143" name="直線單箭頭接點 19"/>
          <p:cNvCxnSpPr>
            <a:stCxn id="134" idx="2"/>
            <a:endCxn id="138" idx="0"/>
          </p:cNvCxnSpPr>
          <p:nvPr/>
        </p:nvCxnSpPr>
        <p:spPr>
          <a:xfrm rot="5400000">
            <a:off x="5635440" y="2354760"/>
            <a:ext cx="689760" cy="888120"/>
          </a:xfrm>
          <a:prstGeom prst="bentConnector3">
            <a:avLst>
              <a:gd name="adj1" fmla="val 49973"/>
            </a:avLst>
          </a:prstGeom>
          <a:ln w="28440">
            <a:solidFill>
              <a:srgbClr val="c00000"/>
            </a:solidFill>
            <a:prstDash val="dash"/>
            <a:round/>
            <a:tailEnd len="med" type="arrow" w="med"/>
          </a:ln>
        </p:spPr>
      </p:cxnSp>
      <p:cxnSp>
        <p:nvCxnSpPr>
          <p:cNvPr id="144" name="直線單箭頭接點 19"/>
          <p:cNvCxnSpPr>
            <a:stCxn id="133" idx="2"/>
            <a:endCxn id="139" idx="3"/>
          </p:cNvCxnSpPr>
          <p:nvPr/>
        </p:nvCxnSpPr>
        <p:spPr>
          <a:xfrm rot="5400000">
            <a:off x="7227000" y="3481200"/>
            <a:ext cx="1364400" cy="246600"/>
          </a:xfrm>
          <a:prstGeom prst="bentConnector2">
            <a:avLst/>
          </a:prstGeom>
          <a:ln w="28440">
            <a:solidFill>
              <a:srgbClr val="730000"/>
            </a:solidFill>
            <a:prstDash val="dash"/>
            <a:round/>
            <a:tailEnd len="med" type="arrow" w="med"/>
          </a:ln>
        </p:spPr>
      </p:cxnSp>
      <p:sp>
        <p:nvSpPr>
          <p:cNvPr id="145" name="圓角矩形圖說文字 236"/>
          <p:cNvSpPr/>
          <p:nvPr/>
        </p:nvSpPr>
        <p:spPr>
          <a:xfrm>
            <a:off x="371520" y="5643720"/>
            <a:ext cx="484812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While DRAM frequency has been modified, DRAM AC Timing  should be re-verified and configured.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4200" y="78588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heck signals amplitude and dc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: measure point is 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D: measure point is Chip Sid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3442892-8C70-45E0-AA89-799775A20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49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0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51" name="群組 23"/>
          <p:cNvGrpSpPr/>
          <p:nvPr/>
        </p:nvGrpSpPr>
        <p:grpSpPr>
          <a:xfrm>
            <a:off x="857160" y="3071880"/>
            <a:ext cx="4286520" cy="744480"/>
            <a:chOff x="857160" y="3071880"/>
            <a:chExt cx="4286520" cy="744480"/>
          </a:xfrm>
        </p:grpSpPr>
        <p:sp>
          <p:nvSpPr>
            <p:cNvPr id="152" name="矩形 16"/>
            <p:cNvSpPr/>
            <p:nvPr/>
          </p:nvSpPr>
          <p:spPr>
            <a:xfrm>
              <a:off x="85716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Chip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>
              <a:off x="4000680" y="3071880"/>
              <a:ext cx="1143000" cy="744480"/>
            </a:xfrm>
            <a:prstGeom prst="rect">
              <a:avLst/>
            </a:prstGeom>
            <a:solidFill>
              <a:srgbClr val="7f7f7f"/>
            </a:solidFill>
            <a:ln w="936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Impact"/>
                </a:rPr>
                <a:t>DRAM</a:t>
              </a:r>
              <a:endParaRPr b="0" lang="en-US" sz="18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54" name="直線接點 20"/>
            <p:cNvSpPr/>
            <p:nvPr/>
          </p:nvSpPr>
          <p:spPr>
            <a:xfrm>
              <a:off x="2000160" y="3444120"/>
              <a:ext cx="20005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55" name="直線接點 22"/>
          <p:cNvSpPr/>
          <p:nvPr/>
        </p:nvSpPr>
        <p:spPr>
          <a:xfrm flipV="1">
            <a:off x="3785400" y="2795400"/>
            <a:ext cx="142920" cy="6426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6" name="文字方塊 24"/>
          <p:cNvSpPr/>
          <p:nvPr/>
        </p:nvSpPr>
        <p:spPr>
          <a:xfrm>
            <a:off x="3714840" y="242892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7" name="直線接點 25"/>
          <p:cNvSpPr/>
          <p:nvPr/>
        </p:nvSpPr>
        <p:spPr>
          <a:xfrm>
            <a:off x="2214000" y="3457440"/>
            <a:ext cx="214200" cy="50004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8" name="文字方塊 26"/>
          <p:cNvSpPr/>
          <p:nvPr/>
        </p:nvSpPr>
        <p:spPr>
          <a:xfrm>
            <a:off x="2071800" y="3929040"/>
            <a:ext cx="221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Measure Point for READ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59" name="文字方塊 29"/>
          <p:cNvSpPr/>
          <p:nvPr/>
        </p:nvSpPr>
        <p:spPr>
          <a:xfrm>
            <a:off x="857160" y="42148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RAM Signal Measure Poin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60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61" name="圓角矩形 34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2" name="圓角矩形 35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3" name="圓角矩形 36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4" name="向下箭號 37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5" name="向下箭號 38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6" name="圓角矩形 39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7" name="向下箭號 40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8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69" name="向下箭號 42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70" name="圓角矩形圖說文字 236"/>
          <p:cNvSpPr/>
          <p:nvPr/>
        </p:nvSpPr>
        <p:spPr>
          <a:xfrm>
            <a:off x="5214960" y="4572000"/>
            <a:ext cx="3714840" cy="1928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Continuous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read_pattern &lt;times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call  write_pattern &lt;times&gt; &lt;pattern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Single Read/Write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lw &lt;addr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w &lt;addr&gt;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1" name="直線接點 27"/>
          <p:cNvSpPr/>
          <p:nvPr/>
        </p:nvSpPr>
        <p:spPr>
          <a:xfrm flipV="1">
            <a:off x="4071960" y="5536800"/>
            <a:ext cx="1143000" cy="12600"/>
          </a:xfrm>
          <a:prstGeom prst="line">
            <a:avLst/>
          </a:prstGeom>
          <a:ln w="1908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2" name="文字方塊 24"/>
          <p:cNvSpPr/>
          <p:nvPr/>
        </p:nvSpPr>
        <p:spPr>
          <a:xfrm>
            <a:off x="642960" y="52578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Those commands are applied to perform pure READ/WRIT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2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signals are below or above requirement, use command to change termination resistance value and re-che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p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(On-Die-Terminat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CD (On-Chip-Driv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AM s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T and Dynamic ODT (Rtt_WR, DDR3 on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iving streng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9C1AEA5-F065-41FD-93E4-079F9C1EA9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8" name="圓角矩形圖說文字 236"/>
          <p:cNvSpPr/>
          <p:nvPr/>
        </p:nvSpPr>
        <p:spPr>
          <a:xfrm>
            <a:off x="4286160" y="4071960"/>
            <a:ext cx="4214880" cy="207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Chip side ODT/OCD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tl_odt_o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odt&gt; &lt;ocd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Modify DRAM side ODT/OCD: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odt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rs_rtt_wr &lt;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value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&gt;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only for DDR3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rv_streng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ohm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79" name="文字方塊 24"/>
          <p:cNvSpPr/>
          <p:nvPr/>
        </p:nvSpPr>
        <p:spPr>
          <a:xfrm>
            <a:off x="165240" y="6313320"/>
            <a:ext cx="412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to modify ODT first and then OCD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DDR Pad Settin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2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signal with/without DDR pad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“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et dram ctl_odt_ocd 75 6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A5B3594-FF94-4035-88A0-FA650E7D3C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8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85" name="群組 10"/>
          <p:cNvGrpSpPr/>
          <p:nvPr/>
        </p:nvGrpSpPr>
        <p:grpSpPr>
          <a:xfrm>
            <a:off x="214200" y="2054160"/>
            <a:ext cx="8715600" cy="3160800"/>
            <a:chOff x="214200" y="2054160"/>
            <a:chExt cx="8715600" cy="3160800"/>
          </a:xfrm>
        </p:grpSpPr>
        <p:pic>
          <p:nvPicPr>
            <p:cNvPr id="186" name="Picture 8" descr="D:\Projects\HS0\RTL8390\real_chip\20130309\CLK_NO ZQ.bmp"/>
            <p:cNvPicPr/>
            <p:nvPr/>
          </p:nvPicPr>
          <p:blipFill>
            <a:blip r:embed="rId1"/>
            <a:stretch/>
          </p:blipFill>
          <p:spPr>
            <a:xfrm>
              <a:off x="214200" y="2054160"/>
              <a:ext cx="4191120" cy="31431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87" name="Picture 9" descr="D:\Projects\HS0\RTL8390\real_chip\20130309\CLK_ZQ.bmp"/>
            <p:cNvPicPr/>
            <p:nvPr/>
          </p:nvPicPr>
          <p:blipFill>
            <a:blip r:embed="rId2"/>
            <a:stretch/>
          </p:blipFill>
          <p:spPr>
            <a:xfrm>
              <a:off x="4714920" y="2054160"/>
              <a:ext cx="4214880" cy="3160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88" name="向右箭號 9"/>
            <p:cNvSpPr/>
            <p:nvPr/>
          </p:nvSpPr>
          <p:spPr>
            <a:xfrm>
              <a:off x="4214880" y="4554720"/>
              <a:ext cx="714240" cy="500040"/>
            </a:xfrm>
            <a:prstGeom prst="rightArrow">
              <a:avLst>
                <a:gd name="adj1" fmla="val 50000"/>
                <a:gd name="adj2" fmla="val 49999"/>
              </a:avLst>
            </a:prstGeom>
            <a:solidFill>
              <a:srgbClr val="339933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89" name="矩形 10"/>
          <p:cNvSpPr/>
          <p:nvPr/>
        </p:nvSpPr>
        <p:spPr>
          <a:xfrm>
            <a:off x="46080" y="5286240"/>
            <a:ext cx="207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disabled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0" name="矩形 11"/>
          <p:cNvSpPr/>
          <p:nvPr/>
        </p:nvSpPr>
        <p:spPr>
          <a:xfrm>
            <a:off x="4547160" y="52862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dt: 75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d4d4d"/>
                </a:solidFill>
                <a:latin typeface="Impact"/>
              </a:rPr>
              <a:t>ocd: 60 ohm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1" name="文字方塊 24"/>
          <p:cNvSpPr/>
          <p:nvPr/>
        </p:nvSpPr>
        <p:spPr>
          <a:xfrm>
            <a:off x="250920" y="6264360"/>
            <a:ext cx="428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Suggest Singal should be large than 1.1 V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o WRITE Delay Timing Adjus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ata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 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6AF76FF-D51E-43F4-927A-6AD550D2E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7" name="矩形 28"/>
          <p:cNvSpPr/>
          <p:nvPr/>
        </p:nvSpPr>
        <p:spPr>
          <a:xfrm>
            <a:off x="28584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Chip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8" name="文字方塊 231"/>
          <p:cNvSpPr/>
          <p:nvPr/>
        </p:nvSpPr>
        <p:spPr>
          <a:xfrm>
            <a:off x="714240" y="3354480"/>
            <a:ext cx="7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TX 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99" name="矩形 36"/>
          <p:cNvSpPr/>
          <p:nvPr/>
        </p:nvSpPr>
        <p:spPr>
          <a:xfrm>
            <a:off x="5000760" y="3214800"/>
            <a:ext cx="1143000" cy="2571480"/>
          </a:xfrm>
          <a:prstGeom prst="rect">
            <a:avLst/>
          </a:prstGeom>
          <a:solidFill>
            <a:srgbClr val="7f7f7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RAM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0" name="文字方塊 303"/>
          <p:cNvSpPr/>
          <p:nvPr/>
        </p:nvSpPr>
        <p:spPr>
          <a:xfrm>
            <a:off x="4929120" y="335448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1" name="文字方塊 231"/>
          <p:cNvSpPr/>
          <p:nvPr/>
        </p:nvSpPr>
        <p:spPr>
          <a:xfrm>
            <a:off x="85716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2" name="文字方塊 303"/>
          <p:cNvSpPr/>
          <p:nvPr/>
        </p:nvSpPr>
        <p:spPr>
          <a:xfrm>
            <a:off x="4929120" y="488808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DQS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3" name="文字方塊 231"/>
          <p:cNvSpPr/>
          <p:nvPr/>
        </p:nvSpPr>
        <p:spPr>
          <a:xfrm>
            <a:off x="857160" y="5487840"/>
            <a:ext cx="5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04" name="文字方塊 303"/>
          <p:cNvSpPr/>
          <p:nvPr/>
        </p:nvSpPr>
        <p:spPr>
          <a:xfrm>
            <a:off x="4929120" y="547848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Impact"/>
              </a:rPr>
              <a:t>DQn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05" name="群組 194"/>
          <p:cNvGrpSpPr/>
          <p:nvPr/>
        </p:nvGrpSpPr>
        <p:grpSpPr>
          <a:xfrm>
            <a:off x="1376280" y="3271680"/>
            <a:ext cx="3757680" cy="439920"/>
            <a:chOff x="1376280" y="3271680"/>
            <a:chExt cx="3757680" cy="439920"/>
          </a:xfrm>
        </p:grpSpPr>
        <p:sp>
          <p:nvSpPr>
            <p:cNvPr id="206" name="直線接點 44"/>
            <p:cNvSpPr/>
            <p:nvPr/>
          </p:nvSpPr>
          <p:spPr>
            <a:xfrm>
              <a:off x="1376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7" name="直線接點 45"/>
            <p:cNvSpPr/>
            <p:nvPr/>
          </p:nvSpPr>
          <p:spPr>
            <a:xfrm flipV="1">
              <a:off x="180792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8" name="直線接點 46"/>
            <p:cNvSpPr/>
            <p:nvPr/>
          </p:nvSpPr>
          <p:spPr>
            <a:xfrm flipH="1" flipV="1">
              <a:off x="2313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09" name="直線接點 47"/>
            <p:cNvSpPr/>
            <p:nvPr/>
          </p:nvSpPr>
          <p:spPr>
            <a:xfrm flipV="1">
              <a:off x="2816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0" name="直線接點 48"/>
            <p:cNvSpPr/>
            <p:nvPr/>
          </p:nvSpPr>
          <p:spPr>
            <a:xfrm flipH="1" flipV="1">
              <a:off x="332100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1" name="直線接點 49"/>
            <p:cNvSpPr/>
            <p:nvPr/>
          </p:nvSpPr>
          <p:spPr>
            <a:xfrm flipV="1">
              <a:off x="382428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2" name="直線接點 50"/>
            <p:cNvSpPr/>
            <p:nvPr/>
          </p:nvSpPr>
          <p:spPr>
            <a:xfrm flipH="1" flipV="1">
              <a:off x="4329360" y="3271680"/>
              <a:ext cx="79200" cy="43200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3" name="直線接點 51"/>
            <p:cNvSpPr/>
            <p:nvPr/>
          </p:nvSpPr>
          <p:spPr>
            <a:xfrm>
              <a:off x="1881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4" name="直線接點 52"/>
            <p:cNvSpPr/>
            <p:nvPr/>
          </p:nvSpPr>
          <p:spPr>
            <a:xfrm>
              <a:off x="2384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5" name="直線接點 53"/>
            <p:cNvSpPr/>
            <p:nvPr/>
          </p:nvSpPr>
          <p:spPr>
            <a:xfrm>
              <a:off x="288900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6" name="直線接點 54"/>
            <p:cNvSpPr/>
            <p:nvPr/>
          </p:nvSpPr>
          <p:spPr>
            <a:xfrm>
              <a:off x="339228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7" name="直線接點 55"/>
            <p:cNvSpPr/>
            <p:nvPr/>
          </p:nvSpPr>
          <p:spPr>
            <a:xfrm>
              <a:off x="3897360" y="3271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8" name="直線接點 56"/>
            <p:cNvSpPr/>
            <p:nvPr/>
          </p:nvSpPr>
          <p:spPr>
            <a:xfrm>
              <a:off x="4400640" y="3703680"/>
              <a:ext cx="4316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19" name="直線接點 57"/>
            <p:cNvSpPr/>
            <p:nvPr/>
          </p:nvSpPr>
          <p:spPr>
            <a:xfrm flipV="1">
              <a:off x="4832640" y="3271680"/>
              <a:ext cx="63360" cy="43992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0" name="直線接點 58"/>
            <p:cNvSpPr/>
            <p:nvPr/>
          </p:nvSpPr>
          <p:spPr>
            <a:xfrm>
              <a:off x="4876920" y="3271680"/>
              <a:ext cx="25704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1" name="群組 230"/>
          <p:cNvGrpSpPr/>
          <p:nvPr/>
        </p:nvGrpSpPr>
        <p:grpSpPr>
          <a:xfrm>
            <a:off x="1486080" y="3782880"/>
            <a:ext cx="3500280" cy="932040"/>
            <a:chOff x="1486080" y="3782880"/>
            <a:chExt cx="3500280" cy="932040"/>
          </a:xfrm>
        </p:grpSpPr>
        <p:sp>
          <p:nvSpPr>
            <p:cNvPr id="222" name="剪去對角線角落矩形 60"/>
            <p:cNvSpPr/>
            <p:nvPr/>
          </p:nvSpPr>
          <p:spPr>
            <a:xfrm>
              <a:off x="2600280" y="3782880"/>
              <a:ext cx="50940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WRITE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3" name="剪去對角線角落矩形 61"/>
            <p:cNvSpPr/>
            <p:nvPr/>
          </p:nvSpPr>
          <p:spPr>
            <a:xfrm>
              <a:off x="2619360" y="4282920"/>
              <a:ext cx="490320" cy="432000"/>
            </a:xfrm>
            <a:prstGeom prst="pie">
              <a:avLst/>
            </a:prstGeom>
            <a:solidFill>
              <a:srgbClr val="99ccff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ADDR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4" name="直線接點 62"/>
            <p:cNvSpPr/>
            <p:nvPr/>
          </p:nvSpPr>
          <p:spPr>
            <a:xfrm>
              <a:off x="1486080" y="3997080"/>
              <a:ext cx="111420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5" name="直線接點 63"/>
            <p:cNvSpPr/>
            <p:nvPr/>
          </p:nvSpPr>
          <p:spPr>
            <a:xfrm flipV="1">
              <a:off x="3110040" y="39970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6" name="直線接點 64"/>
            <p:cNvSpPr/>
            <p:nvPr/>
          </p:nvSpPr>
          <p:spPr>
            <a:xfrm>
              <a:off x="1486080" y="4497480"/>
              <a:ext cx="113328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27" name="直線接點 65"/>
            <p:cNvSpPr/>
            <p:nvPr/>
          </p:nvSpPr>
          <p:spPr>
            <a:xfrm flipV="1">
              <a:off x="3110040" y="4497480"/>
              <a:ext cx="1876320" cy="14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28" name="群組 77"/>
          <p:cNvGrpSpPr/>
          <p:nvPr/>
        </p:nvGrpSpPr>
        <p:grpSpPr>
          <a:xfrm>
            <a:off x="1428840" y="5425920"/>
            <a:ext cx="3500280" cy="432000"/>
            <a:chOff x="1428840" y="5425920"/>
            <a:chExt cx="3500280" cy="432000"/>
          </a:xfrm>
        </p:grpSpPr>
        <p:sp>
          <p:nvSpPr>
            <p:cNvPr id="229" name="直線接點 67"/>
            <p:cNvSpPr/>
            <p:nvPr/>
          </p:nvSpPr>
          <p:spPr>
            <a:xfrm flipV="1">
              <a:off x="4610160" y="5640480"/>
              <a:ext cx="3189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0" name="直線接點 68"/>
            <p:cNvSpPr/>
            <p:nvPr/>
          </p:nvSpPr>
          <p:spPr>
            <a:xfrm>
              <a:off x="1428840" y="5640480"/>
              <a:ext cx="2162160" cy="1440"/>
            </a:xfrm>
            <a:prstGeom prst="line">
              <a:avLst/>
            </a:prstGeom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1" name="剪去對角線角落矩形 69"/>
            <p:cNvSpPr/>
            <p:nvPr/>
          </p:nvSpPr>
          <p:spPr>
            <a:xfrm>
              <a:off x="4129200" y="5425920"/>
              <a:ext cx="48096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1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2" name="剪去對角線角落矩形 70"/>
            <p:cNvSpPr/>
            <p:nvPr/>
          </p:nvSpPr>
          <p:spPr>
            <a:xfrm>
              <a:off x="3591000" y="5425920"/>
              <a:ext cx="519120" cy="43200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d35c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Impact"/>
                </a:rPr>
                <a:t>D0</a:t>
              </a:r>
              <a:endParaRPr b="0" lang="en-US" sz="16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grpSp>
        <p:nvGrpSpPr>
          <p:cNvPr id="233" name="群組 245"/>
          <p:cNvGrpSpPr/>
          <p:nvPr/>
        </p:nvGrpSpPr>
        <p:grpSpPr>
          <a:xfrm>
            <a:off x="1447920" y="4786200"/>
            <a:ext cx="3744720" cy="439920"/>
            <a:chOff x="1447920" y="4786200"/>
            <a:chExt cx="3744720" cy="439920"/>
          </a:xfrm>
        </p:grpSpPr>
        <p:sp>
          <p:nvSpPr>
            <p:cNvPr id="234" name="直線接點 78"/>
            <p:cNvSpPr/>
            <p:nvPr/>
          </p:nvSpPr>
          <p:spPr>
            <a:xfrm flipV="1">
              <a:off x="2816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5" name="直線接點 79"/>
            <p:cNvSpPr/>
            <p:nvPr/>
          </p:nvSpPr>
          <p:spPr>
            <a:xfrm flipH="1" flipV="1">
              <a:off x="332100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6" name="直線接點 80"/>
            <p:cNvSpPr/>
            <p:nvPr/>
          </p:nvSpPr>
          <p:spPr>
            <a:xfrm flipV="1">
              <a:off x="3824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7" name="直線接點 81"/>
            <p:cNvSpPr/>
            <p:nvPr/>
          </p:nvSpPr>
          <p:spPr>
            <a:xfrm flipH="1" flipV="1">
              <a:off x="4329360" y="4786200"/>
              <a:ext cx="79200" cy="4320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8" name="直線接點 82"/>
            <p:cNvSpPr/>
            <p:nvPr/>
          </p:nvSpPr>
          <p:spPr>
            <a:xfrm>
              <a:off x="1447920" y="5215320"/>
              <a:ext cx="1368360" cy="288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39" name="直線接點 83"/>
            <p:cNvSpPr/>
            <p:nvPr/>
          </p:nvSpPr>
          <p:spPr>
            <a:xfrm>
              <a:off x="2889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0" name="直線接點 84"/>
            <p:cNvSpPr/>
            <p:nvPr/>
          </p:nvSpPr>
          <p:spPr>
            <a:xfrm>
              <a:off x="3392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1" name="直線接點 85"/>
            <p:cNvSpPr/>
            <p:nvPr/>
          </p:nvSpPr>
          <p:spPr>
            <a:xfrm>
              <a:off x="3897360" y="4786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2" name="直線接點 86"/>
            <p:cNvSpPr/>
            <p:nvPr/>
          </p:nvSpPr>
          <p:spPr>
            <a:xfrm>
              <a:off x="4400640" y="5218200"/>
              <a:ext cx="4316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3" name="直線接點 87"/>
            <p:cNvSpPr/>
            <p:nvPr/>
          </p:nvSpPr>
          <p:spPr>
            <a:xfrm flipV="1">
              <a:off x="4832280" y="4786200"/>
              <a:ext cx="63360" cy="439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44" name="直線接點 88"/>
            <p:cNvSpPr/>
            <p:nvPr/>
          </p:nvSpPr>
          <p:spPr>
            <a:xfrm>
              <a:off x="4905360" y="4786200"/>
              <a:ext cx="2872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45" name="圓角矩形圖說文字 236"/>
          <p:cNvSpPr/>
          <p:nvPr/>
        </p:nvSpPr>
        <p:spPr>
          <a:xfrm>
            <a:off x="857160" y="6000840"/>
            <a:ext cx="3500640" cy="714240"/>
          </a:xfrm>
          <a:prstGeom prst="wedgeRoundRectCallout">
            <a:avLst>
              <a:gd name="adj1" fmla="val 69597"/>
              <a:gd name="adj2" fmla="val -92064"/>
              <a:gd name="adj3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6" name="圓角矩形圖說文字 236"/>
          <p:cNvSpPr/>
          <p:nvPr/>
        </p:nvSpPr>
        <p:spPr>
          <a:xfrm>
            <a:off x="5929200" y="4643280"/>
            <a:ext cx="2857680" cy="642960"/>
          </a:xfrm>
          <a:prstGeom prst="wedgeRoundRectCallout">
            <a:avLst>
              <a:gd name="adj1" fmla="val -62629"/>
              <a:gd name="adj2" fmla="val -5769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7" name="圓角矩形圖說文字 236"/>
          <p:cNvSpPr/>
          <p:nvPr/>
        </p:nvSpPr>
        <p:spPr>
          <a:xfrm>
            <a:off x="5572080" y="3643200"/>
            <a:ext cx="3409920" cy="642960"/>
          </a:xfrm>
          <a:prstGeom prst="wedgeRoundRectCallout">
            <a:avLst>
              <a:gd name="adj1" fmla="val -56824"/>
              <a:gd name="adj2" fmla="val -90583"/>
              <a:gd name="adj3" fmla="val 16667"/>
            </a:avLst>
          </a:prstGeom>
          <a:solidFill>
            <a:srgbClr val="ff66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48" name="右大括弧 99"/>
          <p:cNvSpPr/>
          <p:nvPr/>
        </p:nvSpPr>
        <p:spPr>
          <a:xfrm>
            <a:off x="5214960" y="3857760"/>
            <a:ext cx="500040" cy="142848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428480"/>
              <a:gd name="textAreaBottom" fmla="*/ 1415520 h 142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170"/>
                </a:lnTo>
                <a:cubicBezTo>
                  <a:pt x="10800" y="10485"/>
                  <a:pt x="16200" y="10800"/>
                  <a:pt x="21600" y="10800"/>
                </a:cubicBezTo>
                <a:cubicBezTo>
                  <a:pt x="16200" y="10800"/>
                  <a:pt x="10800" y="11115"/>
                  <a:pt x="10800" y="11430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249" name="群組 15"/>
          <p:cNvGrpSpPr/>
          <p:nvPr/>
        </p:nvGrpSpPr>
        <p:grpSpPr>
          <a:xfrm>
            <a:off x="6858000" y="714240"/>
            <a:ext cx="2009880" cy="2643480"/>
            <a:chOff x="6858000" y="714240"/>
            <a:chExt cx="2009880" cy="2643480"/>
          </a:xfrm>
        </p:grpSpPr>
        <p:sp>
          <p:nvSpPr>
            <p:cNvPr id="250" name="圓角矩形 104"/>
            <p:cNvSpPr/>
            <p:nvPr/>
          </p:nvSpPr>
          <p:spPr>
            <a:xfrm>
              <a:off x="6858000" y="71424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1" name="圓角矩形 105"/>
            <p:cNvSpPr/>
            <p:nvPr/>
          </p:nvSpPr>
          <p:spPr>
            <a:xfrm>
              <a:off x="6858000" y="128556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2" name="圓角矩形 106"/>
            <p:cNvSpPr/>
            <p:nvPr/>
          </p:nvSpPr>
          <p:spPr>
            <a:xfrm>
              <a:off x="685800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3" name="向下箭號 107"/>
            <p:cNvSpPr/>
            <p:nvPr/>
          </p:nvSpPr>
          <p:spPr>
            <a:xfrm>
              <a:off x="7740720" y="113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4" name="向下箭號 108"/>
            <p:cNvSpPr/>
            <p:nvPr/>
          </p:nvSpPr>
          <p:spPr>
            <a:xfrm>
              <a:off x="7740720" y="16732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5" name="圓角矩形 109"/>
            <p:cNvSpPr/>
            <p:nvPr/>
          </p:nvSpPr>
          <p:spPr>
            <a:xfrm>
              <a:off x="686268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6" name="向下箭號 110"/>
            <p:cNvSpPr/>
            <p:nvPr/>
          </p:nvSpPr>
          <p:spPr>
            <a:xfrm>
              <a:off x="7738920" y="22575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7" name="圓角矩形 15"/>
            <p:cNvSpPr/>
            <p:nvPr/>
          </p:nvSpPr>
          <p:spPr>
            <a:xfrm>
              <a:off x="6858000" y="30355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258" name="向下箭號 112"/>
            <p:cNvSpPr/>
            <p:nvPr/>
          </p:nvSpPr>
          <p:spPr>
            <a:xfrm>
              <a:off x="7738920" y="28576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259" name="直線接點 113"/>
          <p:cNvSpPr/>
          <p:nvPr/>
        </p:nvSpPr>
        <p:spPr>
          <a:xfrm>
            <a:off x="28576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0" name="直線接點 117"/>
          <p:cNvSpPr/>
          <p:nvPr/>
        </p:nvSpPr>
        <p:spPr>
          <a:xfrm>
            <a:off x="3367080" y="3000240"/>
            <a:ext cx="936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1" name="直線接點 118"/>
          <p:cNvSpPr/>
          <p:nvPr/>
        </p:nvSpPr>
        <p:spPr>
          <a:xfrm>
            <a:off x="3866400" y="3000240"/>
            <a:ext cx="9720" cy="228600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S and Data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QS and DQ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lt; buswidth is 8-bits, DQ0~DQ7, buswidth is 16-bits, DQ0~DQ15 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Note: At least, the longest and shortest DQ signal in PCB board should be ver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51D0A0F-BF5A-4396-B824-D60AD1EE3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67" name="圓角矩形圖說文字 236"/>
          <p:cNvSpPr/>
          <p:nvPr/>
        </p:nvSpPr>
        <p:spPr>
          <a:xfrm>
            <a:off x="4500720" y="2571840"/>
            <a:ext cx="4214520" cy="157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S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_delay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DQn :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km90_delay</a:t>
            </a:r>
            <a:r>
              <a:rPr b="0" i="1" lang="zh-TW" sz="1600" spc="-1" strike="noStrike">
                <a:solidFill>
                  <a:srgbClr val="4d4d4d"/>
                </a:solidFill>
                <a:latin typeface="Impact"/>
              </a:rPr>
              <a:t>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_wr_delay_(0~15)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428760" y="4643280"/>
          <a:ext cx="7883280" cy="1479600"/>
        </p:xfrm>
        <a:graphic>
          <a:graphicData uri="http://schemas.openxmlformats.org/drawingml/2006/table">
            <a:tbl>
              <a:tblPr/>
              <a:tblGrid>
                <a:gridCol w="3251160"/>
                <a:gridCol w="1123920"/>
                <a:gridCol w="1531800"/>
                <a:gridCol w="197640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0~15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sp>
        <p:nvSpPr>
          <p:cNvPr id="269" name="文字方塊 10"/>
          <p:cNvSpPr/>
          <p:nvPr/>
        </p:nvSpPr>
        <p:spPr>
          <a:xfrm>
            <a:off x="214200" y="62215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In DRAM datasheet,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0" name="圓角矩形 18"/>
          <p:cNvSpPr/>
          <p:nvPr/>
        </p:nvSpPr>
        <p:spPr>
          <a:xfrm>
            <a:off x="3643200" y="4572000"/>
            <a:ext cx="2786040" cy="157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71" name="肘形接點 11"/>
          <p:cNvCxnSpPr>
            <a:stCxn id="270" idx="3"/>
            <a:endCxn id="269" idx="3"/>
          </p:cNvCxnSpPr>
          <p:nvPr/>
        </p:nvCxnSpPr>
        <p:spPr>
          <a:xfrm>
            <a:off x="6429240" y="5357520"/>
            <a:ext cx="2286720" cy="1033920"/>
          </a:xfrm>
          <a:prstGeom prst="bentConnector3">
            <a:avLst>
              <a:gd name="adj1" fmla="val 109998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28240" y="914040"/>
            <a:ext cx="441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reloader CLI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dram clkm_delay 0x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apply with 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-check waveform, DQS signal delays about 168 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DH: 776 ps-&gt;944 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delay tap is about 30~40 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AB71AB2-A538-4767-8B26-73675621D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7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77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643280" y="7142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G:\waveform\20130318\DQS_DQ4_tDH_clkm_delay_0x5.jpg"/>
          <p:cNvPicPr/>
          <p:nvPr/>
        </p:nvPicPr>
        <p:blipFill>
          <a:blip r:embed="rId2"/>
          <a:stretch/>
        </p:blipFill>
        <p:spPr>
          <a:xfrm>
            <a:off x="4643280" y="3429000"/>
            <a:ext cx="4214880" cy="3160800"/>
          </a:xfrm>
          <a:prstGeom prst="rect">
            <a:avLst/>
          </a:prstGeom>
          <a:ln w="0">
            <a:noFill/>
          </a:ln>
        </p:spPr>
      </p:pic>
      <p:sp>
        <p:nvSpPr>
          <p:cNvPr id="279" name="向右箭號 12"/>
          <p:cNvSpPr/>
          <p:nvPr/>
        </p:nvSpPr>
        <p:spPr>
          <a:xfrm rot="5400000">
            <a:off x="5750280" y="3178800"/>
            <a:ext cx="714240" cy="5000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33993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0" name="文字方塊 16"/>
          <p:cNvSpPr/>
          <p:nvPr/>
        </p:nvSpPr>
        <p:spPr>
          <a:xfrm>
            <a:off x="5715000" y="121428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1" name="文字方塊 16"/>
          <p:cNvSpPr/>
          <p:nvPr/>
        </p:nvSpPr>
        <p:spPr>
          <a:xfrm>
            <a:off x="4714920" y="27147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2" name="矩形 14"/>
          <p:cNvSpPr/>
          <p:nvPr/>
        </p:nvSpPr>
        <p:spPr>
          <a:xfrm>
            <a:off x="6057000" y="3143160"/>
            <a:ext cx="27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Impact"/>
              </a:rPr>
              <a:t>delay DQS0 signal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3" name="文字方塊 16"/>
          <p:cNvSpPr/>
          <p:nvPr/>
        </p:nvSpPr>
        <p:spPr>
          <a:xfrm>
            <a:off x="5715000" y="3967200"/>
            <a:ext cx="9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000"/>
                </a:solidFill>
                <a:latin typeface="Impact"/>
              </a:rPr>
              <a:t>DQS0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4" name="文字方塊 16"/>
          <p:cNvSpPr/>
          <p:nvPr/>
        </p:nvSpPr>
        <p:spPr>
          <a:xfrm>
            <a:off x="4714920" y="546732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DQ4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5" name="直線接點 2"/>
          <p:cNvSpPr/>
          <p:nvPr/>
        </p:nvSpPr>
        <p:spPr>
          <a:xfrm>
            <a:off x="702000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6" name="直線接點 17"/>
          <p:cNvSpPr/>
          <p:nvPr/>
        </p:nvSpPr>
        <p:spPr>
          <a:xfrm>
            <a:off x="7334280" y="3786120"/>
            <a:ext cx="0" cy="245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87" name="直線單箭頭接點 7"/>
          <p:cNvCxnSpPr/>
          <p:nvPr/>
        </p:nvCxnSpPr>
        <p:spPr>
          <a:xfrm>
            <a:off x="7019640" y="6021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8" name="直線接點 20"/>
          <p:cNvSpPr/>
          <p:nvPr/>
        </p:nvSpPr>
        <p:spPr>
          <a:xfrm>
            <a:off x="70898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89" name="直線接點 21"/>
          <p:cNvSpPr/>
          <p:nvPr/>
        </p:nvSpPr>
        <p:spPr>
          <a:xfrm>
            <a:off x="7343640" y="1049400"/>
            <a:ext cx="0" cy="245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290" name="直線單箭頭接點 22"/>
          <p:cNvCxnSpPr/>
          <p:nvPr/>
        </p:nvCxnSpPr>
        <p:spPr>
          <a:xfrm>
            <a:off x="7072200" y="1213920"/>
            <a:ext cx="2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1" name="矩形 9"/>
          <p:cNvSpPr/>
          <p:nvPr/>
        </p:nvSpPr>
        <p:spPr>
          <a:xfrm>
            <a:off x="7061760" y="90792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776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2" name="矩形 25"/>
          <p:cNvSpPr/>
          <p:nvPr/>
        </p:nvSpPr>
        <p:spPr>
          <a:xfrm>
            <a:off x="7237080" y="6156360"/>
            <a:ext cx="88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Impact"/>
              </a:rPr>
              <a:t>944 p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DS, tDH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B44CE29-519F-47C9-AF21-BEF5AC59B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29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298" name="Picture 4" descr="G:\waveform\20130318\DQS_DQ4_tDH.jpg"/>
          <p:cNvPicPr/>
          <p:nvPr/>
        </p:nvPicPr>
        <p:blipFill>
          <a:blip r:embed="rId1"/>
          <a:stretch/>
        </p:blipFill>
        <p:spPr>
          <a:xfrm>
            <a:off x="4071960" y="1500120"/>
            <a:ext cx="4857840" cy="364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G:\waveform\20130318\DQS_DQ4_tDS.jpg"/>
          <p:cNvPicPr/>
          <p:nvPr/>
        </p:nvPicPr>
        <p:blipFill>
          <a:blip r:embed="rId2"/>
          <a:stretch/>
        </p:blipFill>
        <p:spPr>
          <a:xfrm>
            <a:off x="142920" y="1500120"/>
            <a:ext cx="4857840" cy="3643560"/>
          </a:xfrm>
          <a:prstGeom prst="rect">
            <a:avLst/>
          </a:prstGeom>
          <a:ln w="0">
            <a:noFill/>
          </a:ln>
        </p:spPr>
      </p:pic>
      <p:sp>
        <p:nvSpPr>
          <p:cNvPr id="300" name="矩形 18"/>
          <p:cNvSpPr/>
          <p:nvPr/>
        </p:nvSpPr>
        <p:spPr>
          <a:xfrm>
            <a:off x="407196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8001000" y="328608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42920" y="5000760"/>
          <a:ext cx="7537320" cy="1479240"/>
        </p:xfrm>
        <a:graphic>
          <a:graphicData uri="http://schemas.openxmlformats.org/drawingml/2006/table">
            <a:tbl>
              <a:tblPr/>
              <a:tblGrid>
                <a:gridCol w="2905200"/>
                <a:gridCol w="1123920"/>
                <a:gridCol w="1531800"/>
                <a:gridCol w="1976400"/>
              </a:tblGrid>
              <a:tr h="371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setup time (tDS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4 input hold time (tD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6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  <p:cxnSp>
        <p:nvCxnSpPr>
          <p:cNvPr id="303" name="肘形接點 15"/>
          <p:cNvCxnSpPr>
            <a:stCxn id="300" idx="2"/>
          </p:cNvCxnSpPr>
          <p:nvPr/>
        </p:nvCxnSpPr>
        <p:spPr>
          <a:xfrm flipH="1" rot="16200000">
            <a:off x="4446720" y="3517560"/>
            <a:ext cx="2358000" cy="2180160"/>
          </a:xfrm>
          <a:prstGeom prst="bentConnector3">
            <a:avLst>
              <a:gd name="adj1" fmla="val 49992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304" name="肘形接點 16"/>
          <p:cNvCxnSpPr>
            <a:stCxn id="301" idx="2"/>
          </p:cNvCxnSpPr>
          <p:nvPr/>
        </p:nvCxnSpPr>
        <p:spPr>
          <a:xfrm rot="5400000">
            <a:off x="6339600" y="4160880"/>
            <a:ext cx="2858400" cy="1394640"/>
          </a:xfrm>
          <a:prstGeom prst="bentConnector3">
            <a:avLst>
              <a:gd name="adj1" fmla="val 49993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DQ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DQ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1ED3CB0-C62A-47F7-993D-3F9B8BBBD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0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0" name="圓角矩形圖說文字 236"/>
          <p:cNvSpPr/>
          <p:nvPr/>
        </p:nvSpPr>
        <p:spPr>
          <a:xfrm>
            <a:off x="4500720" y="14288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85840" y="2357280"/>
          <a:ext cx="8211960" cy="2857680"/>
        </p:xfrm>
        <a:graphic>
          <a:graphicData uri="http://schemas.openxmlformats.org/drawingml/2006/table">
            <a:tbl>
              <a:tblPr/>
              <a:tblGrid>
                <a:gridCol w="4786200"/>
                <a:gridCol w="1106640"/>
                <a:gridCol w="1130040"/>
                <a:gridCol w="1189080"/>
              </a:tblGrid>
              <a:tr h="36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latching rising transitions to associated clock edge (tDQ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to CK setup time (tDSS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falling edge hold time from CK (tD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HIGH pulse width (tDQSH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DQS input LOW pulse width (tDQSL) 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5 tCK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  <p:sp>
        <p:nvSpPr>
          <p:cNvPr id="312" name="文字方塊 10"/>
          <p:cNvSpPr/>
          <p:nvPr/>
        </p:nvSpPr>
        <p:spPr>
          <a:xfrm>
            <a:off x="214200" y="5500800"/>
            <a:ext cx="678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Impact"/>
              </a:rPr>
              <a:t>*Note: Please find required timing parameters according to different frequency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3" name="圓角矩形 18"/>
          <p:cNvSpPr/>
          <p:nvPr/>
        </p:nvSpPr>
        <p:spPr>
          <a:xfrm>
            <a:off x="5000760" y="2357280"/>
            <a:ext cx="2357280" cy="2928960"/>
          </a:xfrm>
          <a:custGeom>
            <a:avLst/>
            <a:gdLst>
              <a:gd name="textAreaLeft" fmla="*/ 114840 w 2357280"/>
              <a:gd name="textAreaRight" fmla="*/ 2242440 w 2357280"/>
              <a:gd name="textAreaTop" fmla="*/ 114840 h 2928960"/>
              <a:gd name="textAreaBottom" fmla="*/ 2814120 h 2928960"/>
            </a:gdLst>
            <a:ahLst/>
            <a:rect l="textAreaLeft" t="textAreaTop" r="textAreaRight" b="textAreaBottom"/>
            <a:pathLst>
              <a:path w="21600" h="26838">
                <a:moveTo>
                  <a:pt x="3600" y="0"/>
                </a:moveTo>
                <a:arcTo wR="3600" hR="3600" stAng="16200000" swAng="-5400000"/>
                <a:lnTo>
                  <a:pt x="0" y="23238"/>
                </a:lnTo>
                <a:arcTo wR="3600" hR="3600" stAng="10800000" swAng="-5400000"/>
                <a:lnTo>
                  <a:pt x="18000" y="2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14" name="肘形接點 11"/>
          <p:cNvCxnSpPr>
            <a:stCxn id="313" idx="3"/>
            <a:endCxn id="312" idx="3"/>
          </p:cNvCxnSpPr>
          <p:nvPr/>
        </p:nvCxnSpPr>
        <p:spPr>
          <a:xfrm flipH="1">
            <a:off x="7000560" y="3822480"/>
            <a:ext cx="357840" cy="1848600"/>
          </a:xfrm>
          <a:prstGeom prst="bentConnector3">
            <a:avLst>
              <a:gd name="adj1" fmla="val -63947"/>
            </a:avLst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3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DQSS measurement in DRAM 40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C4163FFB-ADCE-47B4-8835-8935A5B72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785960" y="13572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21" name="文字方塊 16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DQS0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2" name="文字方塊 17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3" name="矩形 18"/>
          <p:cNvSpPr/>
          <p:nvPr/>
        </p:nvSpPr>
        <p:spPr>
          <a:xfrm>
            <a:off x="6715080" y="364320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4" name="文字方塊 19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tDQSS should be within ¼ tCLK = 625 ps 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Introduc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s document will introduce how to use pre-calibration tool to figure out DRAM parame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cu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AM Datashe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PU &amp; Memory Controller Datasheet’, Realtek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calibration 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4A35A97-D438-4125-BC5D-0CA970D8F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3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LK and Commands signal alig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erified signal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K and commands signals (RAS#, CAS#, CS# and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ified Timing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5189180-500B-4DB5-B7AF-E3D5C53D6D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2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0" name="圓角矩形圖說文字 236"/>
          <p:cNvSpPr/>
          <p:nvPr/>
        </p:nvSpPr>
        <p:spPr>
          <a:xfrm>
            <a:off x="4500720" y="1857240"/>
            <a:ext cx="4214520" cy="6429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x_clk_phs_delay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431640" y="2879640"/>
          <a:ext cx="8212320" cy="3697200"/>
        </p:xfrm>
        <a:graphic>
          <a:graphicData uri="http://schemas.openxmlformats.org/drawingml/2006/table">
            <a:tbl>
              <a:tblPr/>
              <a:tblGrid>
                <a:gridCol w="4786560"/>
                <a:gridCol w="1106280"/>
                <a:gridCol w="1130400"/>
                <a:gridCol w="1189080"/>
              </a:tblGrid>
              <a:tr h="3715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DRAM Timing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Required (DDR3-800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easured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872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R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A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CS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setup time (tIS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 lvl="2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新細明體"/>
                        </a:rPr>
                        <a:t>WE# hold time (tIH)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ps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S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40199AD0-A54B-4BE6-B88E-675BF244C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37" name="Picture 2" descr="D:\Projects\HS0\RTL8390\real_chip\20130315\CLK_CAS#_tIS.jpg"/>
          <p:cNvPicPr/>
          <p:nvPr/>
        </p:nvPicPr>
        <p:blipFill>
          <a:blip r:embed="rId1"/>
          <a:stretch/>
        </p:blipFill>
        <p:spPr>
          <a:xfrm>
            <a:off x="1643040" y="142884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338" name="文字方塊 7"/>
          <p:cNvSpPr/>
          <p:nvPr/>
        </p:nvSpPr>
        <p:spPr>
          <a:xfrm>
            <a:off x="642960" y="25002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39" name="文字方塊 8"/>
          <p:cNvSpPr/>
          <p:nvPr/>
        </p:nvSpPr>
        <p:spPr>
          <a:xfrm>
            <a:off x="928800" y="39164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0" name="矩形 9"/>
          <p:cNvSpPr/>
          <p:nvPr/>
        </p:nvSpPr>
        <p:spPr>
          <a:xfrm>
            <a:off x="6572160" y="371484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1" name="文字方塊 11"/>
          <p:cNvSpPr/>
          <p:nvPr/>
        </p:nvSpPr>
        <p:spPr>
          <a:xfrm>
            <a:off x="3500280" y="4786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setup time valu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WRITE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3-4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H measurement in DRAM 400MHz for CAS#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F020048B-EE7B-49F1-B11A-383243DAB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47" name="Picture 2" descr="D:\Projects\HS0\RTL8390\real_chip\20130315\CLK_CAS#_tIH.jpg"/>
          <p:cNvPicPr/>
          <p:nvPr/>
        </p:nvPicPr>
        <p:blipFill>
          <a:blip r:embed="rId1"/>
          <a:stretch/>
        </p:blipFill>
        <p:spPr>
          <a:xfrm>
            <a:off x="1857240" y="14288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348" name="文字方塊 12"/>
          <p:cNvSpPr/>
          <p:nvPr/>
        </p:nvSpPr>
        <p:spPr>
          <a:xfrm>
            <a:off x="1000080" y="257184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AS#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49" name="文字方塊 13"/>
          <p:cNvSpPr/>
          <p:nvPr/>
        </p:nvSpPr>
        <p:spPr>
          <a:xfrm>
            <a:off x="1285920" y="3929040"/>
            <a:ext cx="64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Impact"/>
              </a:rPr>
              <a:t>CK</a:t>
            </a: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6786720" y="3714840"/>
            <a:ext cx="92844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1" name="文字方塊 15"/>
          <p:cNvSpPr/>
          <p:nvPr/>
        </p:nvSpPr>
        <p:spPr>
          <a:xfrm>
            <a:off x="3500280" y="4786200"/>
            <a:ext cx="485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Impact"/>
              </a:rPr>
              <a:t>Command signals hold time is 350 ps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71424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1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 configuration and do software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check result is su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948703B3-F59E-4808-AFDF-621122254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5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1"/>
          <a:stretch/>
        </p:blipFill>
        <p:spPr>
          <a:xfrm>
            <a:off x="357120" y="1643040"/>
            <a:ext cx="6334200" cy="4162320"/>
          </a:xfrm>
          <a:prstGeom prst="rect">
            <a:avLst/>
          </a:prstGeom>
          <a:ln w="0">
            <a:noFill/>
          </a:ln>
        </p:spPr>
      </p:pic>
      <p:sp>
        <p:nvSpPr>
          <p:cNvPr id="358" name="文字方塊 10"/>
          <p:cNvSpPr/>
          <p:nvPr/>
        </p:nvSpPr>
        <p:spPr>
          <a:xfrm>
            <a:off x="2571840" y="4929120"/>
            <a:ext cx="52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1. check result is success here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2. check frequency is correct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359" name="直線單箭頭接點 16"/>
          <p:cNvCxnSpPr>
            <a:endCxn id="358" idx="1"/>
          </p:cNvCxnSpPr>
          <p:nvPr/>
        </p:nvCxnSpPr>
        <p:spPr>
          <a:xfrm>
            <a:off x="2286000" y="5214960"/>
            <a:ext cx="286560" cy="131040"/>
          </a:xfrm>
          <a:prstGeom prst="straightConnector1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360" name="矩形 19"/>
          <p:cNvSpPr/>
          <p:nvPr/>
        </p:nvSpPr>
        <p:spPr>
          <a:xfrm>
            <a:off x="285840" y="5000760"/>
            <a:ext cx="2071440" cy="85716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361" name="群組 15"/>
          <p:cNvGrpSpPr/>
          <p:nvPr/>
        </p:nvGrpSpPr>
        <p:grpSpPr>
          <a:xfrm>
            <a:off x="6929280" y="2071800"/>
            <a:ext cx="2009880" cy="2643120"/>
            <a:chOff x="6929280" y="2071800"/>
            <a:chExt cx="2009880" cy="2643120"/>
          </a:xfrm>
        </p:grpSpPr>
        <p:sp>
          <p:nvSpPr>
            <p:cNvPr id="362" name="圓角矩形 24"/>
            <p:cNvSpPr/>
            <p:nvPr/>
          </p:nvSpPr>
          <p:spPr>
            <a:xfrm>
              <a:off x="6929280" y="207180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3" name="圓角矩形 25"/>
            <p:cNvSpPr/>
            <p:nvPr/>
          </p:nvSpPr>
          <p:spPr>
            <a:xfrm>
              <a:off x="6929280" y="26431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4" name="圓角矩形 26"/>
            <p:cNvSpPr/>
            <p:nvPr/>
          </p:nvSpPr>
          <p:spPr>
            <a:xfrm>
              <a:off x="6929280" y="378648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5" name="向下箭號 27"/>
            <p:cNvSpPr/>
            <p:nvPr/>
          </p:nvSpPr>
          <p:spPr>
            <a:xfrm>
              <a:off x="7812000" y="2490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6" name="向下箭號 28"/>
            <p:cNvSpPr/>
            <p:nvPr/>
          </p:nvSpPr>
          <p:spPr>
            <a:xfrm>
              <a:off x="7812000" y="30304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7" name="圓角矩形 29"/>
            <p:cNvSpPr/>
            <p:nvPr/>
          </p:nvSpPr>
          <p:spPr>
            <a:xfrm>
              <a:off x="6933960" y="32148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8" name="向下箭號 30"/>
            <p:cNvSpPr/>
            <p:nvPr/>
          </p:nvSpPr>
          <p:spPr>
            <a:xfrm>
              <a:off x="7810200" y="36147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69" name="圓角矩形 15"/>
            <p:cNvSpPr/>
            <p:nvPr/>
          </p:nvSpPr>
          <p:spPr>
            <a:xfrm>
              <a:off x="6929280" y="43927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370" name="向下箭號 32"/>
            <p:cNvSpPr/>
            <p:nvPr/>
          </p:nvSpPr>
          <p:spPr>
            <a:xfrm>
              <a:off x="7810200" y="4214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4-2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READ Window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1FF7725-058E-4D2F-8D62-813DFB42D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4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5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71680" y="1143000"/>
            <a:ext cx="6276960" cy="3876840"/>
          </a:xfrm>
          <a:prstGeom prst="rect">
            <a:avLst/>
          </a:prstGeom>
          <a:ln w="0">
            <a:noFill/>
          </a:ln>
        </p:spPr>
      </p:pic>
      <p:sp>
        <p:nvSpPr>
          <p:cNvPr id="377" name="矩形 7"/>
          <p:cNvSpPr/>
          <p:nvPr/>
        </p:nvSpPr>
        <p:spPr>
          <a:xfrm>
            <a:off x="571680" y="2428920"/>
            <a:ext cx="4929120" cy="12859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8" name="內容版面配置區 2"/>
          <p:cNvSpPr/>
          <p:nvPr/>
        </p:nvSpPr>
        <p:spPr>
          <a:xfrm>
            <a:off x="5572080" y="2276640"/>
            <a:ext cx="3286080" cy="345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ed DQ READ Window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1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2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3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x001E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DR frequency = 400 MHz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x00150F00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79" name="圓角矩形圖說文字 236"/>
          <p:cNvSpPr/>
          <p:nvPr/>
        </p:nvSpPr>
        <p:spPr>
          <a:xfrm>
            <a:off x="500040" y="5214960"/>
            <a:ext cx="4857840" cy="1071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hclk/dqs1_en_hcl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en_tap/dqs1_en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qs0_group_tap/dqs1_group_ta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0" name="文字方塊 15"/>
          <p:cNvSpPr/>
          <p:nvPr/>
        </p:nvSpPr>
        <p:spPr>
          <a:xfrm>
            <a:off x="3143160" y="385776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Impact"/>
              </a:rPr>
              <a:t>READ Window information</a:t>
            </a:r>
            <a:endParaRPr b="0" lang="en-US" sz="2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1" name="矩形 7"/>
          <p:cNvSpPr/>
          <p:nvPr/>
        </p:nvSpPr>
        <p:spPr>
          <a:xfrm>
            <a:off x="1500120" y="2428920"/>
            <a:ext cx="928800" cy="1429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set dram dqs0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hclk 0x1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en_tap 0x7 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1_en_tap 0x7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5F5C88D4-1FF7-45F5-A525-415B7D0FA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1"/>
          <a:stretch/>
        </p:blipFill>
        <p:spPr>
          <a:xfrm>
            <a:off x="642960" y="1343160"/>
            <a:ext cx="4943520" cy="1514520"/>
          </a:xfrm>
          <a:prstGeom prst="rect">
            <a:avLst/>
          </a:prstGeom>
          <a:ln w="0">
            <a:noFill/>
          </a:ln>
        </p:spPr>
      </p:pic>
      <p:sp>
        <p:nvSpPr>
          <p:cNvPr id="388" name="矩形 13"/>
          <p:cNvSpPr/>
          <p:nvPr/>
        </p:nvSpPr>
        <p:spPr>
          <a:xfrm>
            <a:off x="642960" y="2128680"/>
            <a:ext cx="4929120" cy="71460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89" name="矩形 13"/>
          <p:cNvSpPr/>
          <p:nvPr/>
        </p:nvSpPr>
        <p:spPr>
          <a:xfrm>
            <a:off x="5357880" y="2109960"/>
            <a:ext cx="285840" cy="7142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READ Timing Adjustmen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ample 4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Qn both rising and Falling Edge Result is not start from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commands 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t dram dqs0_group_tap 4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d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call dram_setup”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app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0382A9E-3BFF-44F0-8419-807D9EB07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4943520" cy="1495080"/>
          </a:xfrm>
          <a:prstGeom prst="rect">
            <a:avLst/>
          </a:prstGeom>
          <a:ln w="0">
            <a:noFill/>
          </a:ln>
        </p:spPr>
      </p:pic>
      <p:sp>
        <p:nvSpPr>
          <p:cNvPr id="396" name="矩形 11"/>
          <p:cNvSpPr/>
          <p:nvPr/>
        </p:nvSpPr>
        <p:spPr>
          <a:xfrm>
            <a:off x="642960" y="1714680"/>
            <a:ext cx="4929120" cy="1500120"/>
          </a:xfrm>
          <a:prstGeom prst="rect">
            <a:avLst/>
          </a:prstGeom>
          <a:noFill/>
          <a:ln w="19080">
            <a:solidFill>
              <a:srgbClr val="c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5357880" y="1714680"/>
            <a:ext cx="285840" cy="150012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restore current DRAM parame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E35F6B53-F8C8-43DC-8D3F-36425ABCC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642960" y="1200240"/>
            <a:ext cx="23572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Impact"/>
              </a:rPr>
              <a:t>show dram_info  -u</a:t>
            </a:r>
            <a:endParaRPr b="0" lang="en-US" sz="20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404" name="群組 15"/>
          <p:cNvGrpSpPr/>
          <p:nvPr/>
        </p:nvGrpSpPr>
        <p:grpSpPr>
          <a:xfrm>
            <a:off x="6991200" y="1285920"/>
            <a:ext cx="2009880" cy="2643120"/>
            <a:chOff x="6991200" y="1285920"/>
            <a:chExt cx="2009880" cy="2643120"/>
          </a:xfrm>
        </p:grpSpPr>
        <p:sp>
          <p:nvSpPr>
            <p:cNvPr id="405" name="圓角矩形 14"/>
            <p:cNvSpPr/>
            <p:nvPr/>
          </p:nvSpPr>
          <p:spPr>
            <a:xfrm>
              <a:off x="6991200" y="1285920"/>
              <a:ext cx="2005200" cy="35712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6" name="圓角矩形 15"/>
            <p:cNvSpPr/>
            <p:nvPr/>
          </p:nvSpPr>
          <p:spPr>
            <a:xfrm>
              <a:off x="6991200" y="18572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7" name="圓角矩形 16"/>
            <p:cNvSpPr/>
            <p:nvPr/>
          </p:nvSpPr>
          <p:spPr>
            <a:xfrm>
              <a:off x="6991200" y="300060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8" name="向下箭號 17"/>
            <p:cNvSpPr/>
            <p:nvPr/>
          </p:nvSpPr>
          <p:spPr>
            <a:xfrm>
              <a:off x="7873920" y="170496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09" name="向下箭號 18"/>
            <p:cNvSpPr/>
            <p:nvPr/>
          </p:nvSpPr>
          <p:spPr>
            <a:xfrm>
              <a:off x="7873920" y="22446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0" name="圓角矩形 19"/>
            <p:cNvSpPr/>
            <p:nvPr/>
          </p:nvSpPr>
          <p:spPr>
            <a:xfrm>
              <a:off x="6995880" y="242892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1" name="向下箭號 20"/>
            <p:cNvSpPr/>
            <p:nvPr/>
          </p:nvSpPr>
          <p:spPr>
            <a:xfrm>
              <a:off x="7872120" y="282888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2" name="圓角矩形 15"/>
            <p:cNvSpPr/>
            <p:nvPr/>
          </p:nvSpPr>
          <p:spPr>
            <a:xfrm>
              <a:off x="6991200" y="3606840"/>
              <a:ext cx="2005200" cy="322200"/>
            </a:xfrm>
            <a:prstGeom prst="roundRect">
              <a:avLst>
                <a:gd name="adj" fmla="val 16667"/>
              </a:avLst>
            </a:prstGeom>
            <a:solidFill>
              <a:srgbClr val="ffb3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 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413" name="向下箭號 22"/>
            <p:cNvSpPr/>
            <p:nvPr/>
          </p:nvSpPr>
          <p:spPr>
            <a:xfrm>
              <a:off x="7872120" y="34290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pic>
        <p:nvPicPr>
          <p:cNvPr id="414" name="Picture 20" descr=""/>
          <p:cNvPicPr/>
          <p:nvPr/>
        </p:nvPicPr>
        <p:blipFill>
          <a:blip r:embed="rId1"/>
          <a:stretch/>
        </p:blipFill>
        <p:spPr>
          <a:xfrm>
            <a:off x="3357720" y="1357200"/>
            <a:ext cx="3038400" cy="500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Using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exit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enter u-Boot and do memory test by u-Boot comm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mdram_test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B1A35D36-48B9-4B87-90AE-342E99F80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1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0" name="文字方塊 19"/>
          <p:cNvSpPr/>
          <p:nvPr/>
        </p:nvSpPr>
        <p:spPr>
          <a:xfrm>
            <a:off x="4500720" y="56437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“mdram_test” to do memory tes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1" name="直線單箭頭接點 20"/>
          <p:cNvCxnSpPr>
            <a:stCxn id="422" idx="2"/>
            <a:endCxn id="420" idx="1"/>
          </p:cNvCxnSpPr>
          <p:nvPr/>
        </p:nvCxnSpPr>
        <p:spPr>
          <a:xfrm>
            <a:off x="4106880" y="5500800"/>
            <a:ext cx="394560" cy="32760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grpSp>
        <p:nvGrpSpPr>
          <p:cNvPr id="423" name="群組 29"/>
          <p:cNvGrpSpPr/>
          <p:nvPr/>
        </p:nvGrpSpPr>
        <p:grpSpPr>
          <a:xfrm>
            <a:off x="428760" y="1785960"/>
            <a:ext cx="7362720" cy="3724200"/>
            <a:chOff x="428760" y="1785960"/>
            <a:chExt cx="7362720" cy="3724200"/>
          </a:xfrm>
        </p:grpSpPr>
        <p:pic>
          <p:nvPicPr>
            <p:cNvPr id="424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7362720" cy="37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4" descr=""/>
            <p:cNvPicPr/>
            <p:nvPr/>
          </p:nvPicPr>
          <p:blipFill>
            <a:blip r:embed="rId2"/>
            <a:stretch/>
          </p:blipFill>
          <p:spPr>
            <a:xfrm>
              <a:off x="1204920" y="4676760"/>
              <a:ext cx="866520" cy="19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矩形 31"/>
          <p:cNvSpPr/>
          <p:nvPr/>
        </p:nvSpPr>
        <p:spPr>
          <a:xfrm>
            <a:off x="428760" y="4714920"/>
            <a:ext cx="735804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6" name="文字方塊 33"/>
          <p:cNvSpPr/>
          <p:nvPr/>
        </p:nvSpPr>
        <p:spPr>
          <a:xfrm>
            <a:off x="6286680" y="1643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1. “exit” to enter u-Boo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27" name="直線單箭頭接點 34"/>
          <p:cNvCxnSpPr>
            <a:stCxn id="428" idx="3"/>
            <a:endCxn id="426" idx="1"/>
          </p:cNvCxnSpPr>
          <p:nvPr/>
        </p:nvCxnSpPr>
        <p:spPr>
          <a:xfrm flipV="1">
            <a:off x="6000840" y="1827000"/>
            <a:ext cx="286560" cy="3513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28" name="矩形 35"/>
          <p:cNvSpPr/>
          <p:nvPr/>
        </p:nvSpPr>
        <p:spPr>
          <a:xfrm>
            <a:off x="428760" y="1785960"/>
            <a:ext cx="5572080" cy="78588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29" name="文字方塊 19"/>
          <p:cNvSpPr/>
          <p:nvPr/>
        </p:nvSpPr>
        <p:spPr>
          <a:xfrm>
            <a:off x="49291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Impact"/>
              </a:rPr>
              <a:t>2. check frequency and siz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30" name="直線單箭頭接點 16"/>
          <p:cNvCxnSpPr>
            <a:stCxn id="431" idx="3"/>
            <a:endCxn id="429" idx="1"/>
          </p:cNvCxnSpPr>
          <p:nvPr/>
        </p:nvCxnSpPr>
        <p:spPr>
          <a:xfrm>
            <a:off x="4500720" y="3465360"/>
            <a:ext cx="429120" cy="5760"/>
          </a:xfrm>
          <a:prstGeom prst="straightConnector1">
            <a:avLst/>
          </a:prstGeom>
          <a:ln w="9360">
            <a:solidFill>
              <a:srgbClr val="730000"/>
            </a:solidFill>
            <a:miter/>
            <a:tailEnd len="med" type="triangle" w="med"/>
          </a:ln>
        </p:spPr>
      </p:cxnSp>
      <p:sp>
        <p:nvSpPr>
          <p:cNvPr id="431" name="矩形 31"/>
          <p:cNvSpPr/>
          <p:nvPr/>
        </p:nvSpPr>
        <p:spPr>
          <a:xfrm>
            <a:off x="428760" y="3214800"/>
            <a:ext cx="4071960" cy="50004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Memory Test &amp; Restore Config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8600" y="74268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5-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f memory test is pa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py previous DRAM parameters in step 5-1, and paste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oc_init_parameters.c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replace original paramet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6A89668-538F-499C-B787-EAF37725D6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5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6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714240" y="3425760"/>
            <a:ext cx="5362560" cy="1562040"/>
          </a:xfrm>
          <a:prstGeom prst="rect">
            <a:avLst/>
          </a:prstGeom>
          <a:ln w="0">
            <a:noFill/>
          </a:ln>
        </p:spPr>
      </p:pic>
      <p:sp>
        <p:nvSpPr>
          <p:cNvPr id="438" name="矩形 9"/>
          <p:cNvSpPr/>
          <p:nvPr/>
        </p:nvSpPr>
        <p:spPr>
          <a:xfrm>
            <a:off x="1357200" y="375444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39" name="文字方塊 10"/>
          <p:cNvSpPr/>
          <p:nvPr/>
        </p:nvSpPr>
        <p:spPr>
          <a:xfrm>
            <a:off x="6643800" y="349740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1. Comment this lin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0" name="矩形 11"/>
          <p:cNvSpPr/>
          <p:nvPr/>
        </p:nvSpPr>
        <p:spPr>
          <a:xfrm>
            <a:off x="1357200" y="3978360"/>
            <a:ext cx="4214880" cy="214200"/>
          </a:xfrm>
          <a:prstGeom prst="rect">
            <a:avLst/>
          </a:prstGeom>
          <a:noFill/>
          <a:ln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1" name="直線單箭頭接點 13"/>
          <p:cNvCxnSpPr>
            <a:stCxn id="438" idx="3"/>
            <a:endCxn id="439" idx="1"/>
          </p:cNvCxnSpPr>
          <p:nvPr/>
        </p:nvCxnSpPr>
        <p:spPr>
          <a:xfrm flipV="1">
            <a:off x="5571720" y="3681000"/>
            <a:ext cx="10724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文字方塊 16"/>
          <p:cNvSpPr/>
          <p:nvPr/>
        </p:nvSpPr>
        <p:spPr>
          <a:xfrm>
            <a:off x="3286080" y="5286240"/>
            <a:ext cx="51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2.  Paste DRAM dump parameters here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3.  Suggest to record DRAM frequency as a comment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cxnSp>
        <p:nvCxnSpPr>
          <p:cNvPr id="443" name="直線單箭頭接點 17"/>
          <p:cNvCxnSpPr>
            <a:stCxn id="440" idx="2"/>
            <a:endCxn id="442" idx="0"/>
          </p:cNvCxnSpPr>
          <p:nvPr/>
        </p:nvCxnSpPr>
        <p:spPr>
          <a:xfrm>
            <a:off x="3463920" y="4192560"/>
            <a:ext cx="2394720" cy="10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矩形 14"/>
          <p:cNvSpPr/>
          <p:nvPr/>
        </p:nvSpPr>
        <p:spPr>
          <a:xfrm>
            <a:off x="577440" y="3071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Impact"/>
              </a:rPr>
              <a:t>soc_init_parameters.c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Outline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alibri"/>
              </a:rPr>
              <a:t>DRAM Config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Pre-Configur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DDR Pad Sett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WRITE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READ Timing Adjustm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Calibri"/>
              </a:rPr>
              <a:t>Memory Test and Restore Confi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69D57415-0749-43EC-9963-773848936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6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4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89258E6-533F-41B2-80E9-5345A6EA10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4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42920" y="714240"/>
          <a:ext cx="8858160" cy="5139000"/>
        </p:xfrm>
        <a:graphic>
          <a:graphicData uri="http://schemas.openxmlformats.org/drawingml/2006/table">
            <a:tbl>
              <a:tblPr/>
              <a:tblGrid>
                <a:gridCol w="3071880"/>
                <a:gridCol w="4357440"/>
                <a:gridCol w="1428840"/>
              </a:tblGrid>
              <a:tr h="60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size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buswid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t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tl_odt_o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T: 24/25/30/40/50/60/75/80/100/150/160/200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D: 48/50/60/80/100/120/150/160/200/300/320/4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x_clk_phs_delay 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clkm90_delay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_wr_delay_(0~15)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m0/dqm1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600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odt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/50/75/150, DDR3: 0/20/30/40/60/12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52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rtt_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/60/120, 0 for dis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9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mrs_drv_strength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2: 0: normal, 1: reduc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R3: 0: 40 ohm, 1: 34 ohm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1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D5950A42-1BC8-4F4B-8175-4B7923DA3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2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3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214200" y="714240"/>
          <a:ext cx="8786880" cy="516420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hclk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: disable, 1: enabl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en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0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dqs1_group_ta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~3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ps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dram_setup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&lt;dram_info|pll_info&gt; [-u|-p|-v]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p: preloader type, -u: TCL type, -v: verbose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 init_resul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write_pattern &lt;times&gt; &lt;pattern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tern: &lt;4 bytes string in Hex&gt;, ex: 0xFF00FF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read_pattern &lt;times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:  &lt;integer&gt;, ex: 10000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&lt;dram|pll&gt; &lt;parameter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42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mem-clk&gt; &lt;lx-clk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pll clock &lt;cpu-clk&gt; &lt;dsp-clk&gt; &lt;mem-clk&gt; &lt;lx-clk&gt;    </a:t>
                      </a:r>
                      <a:r>
                        <a:rPr b="0" lang="en-US" sz="1400" spc="-1" strike="noStrike">
                          <a:solidFill>
                            <a:srgbClr val="0033cc"/>
                          </a:solidFill>
                          <a:latin typeface="Calibri"/>
                        </a:rPr>
                        <a:t>* if DSP exist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ce to  </a:t>
                      </a:r>
                      <a:r>
                        <a:rPr b="0" lang="en-US" sz="1400" spc="-1" strike="noStrike" u="sng">
                          <a:solidFill>
                            <a:srgbClr val="0033cc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Appendix. Suggested PLL Range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Hz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Command List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90E7EC7-580D-4480-AFB8-E5F64E0E7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5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14200" y="714240"/>
          <a:ext cx="8786880" cy="4097520"/>
        </p:xfrm>
        <a:graphic>
          <a:graphicData uri="http://schemas.openxmlformats.org/drawingml/2006/table">
            <a:tbl>
              <a:tblPr/>
              <a:tblGrid>
                <a:gridCol w="2857680"/>
                <a:gridCol w="4429080"/>
                <a:gridCol w="1500120"/>
              </a:tblGrid>
              <a:tr h="500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commands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available value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Calibri"/>
                        </a:rPr>
                        <a:t>unit</a:t>
                      </a:r>
                      <a:endParaRPr b="0" lang="en-US" sz="20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324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~11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cwl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8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t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wtr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9460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p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c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rd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fawg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32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1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3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efi_unit &lt;value&gt; 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/64/128/256/512/1024/2048/409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  <a:tr h="322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fc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256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ddecd"/>
                    </a:solidFill>
                  </a:tcPr>
                </a:tc>
              </a:tr>
              <a:tr h="322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dram tras &lt;value&gt;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~64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CLK</a:t>
                      </a:r>
                      <a:endParaRPr b="0" lang="en-US" sz="1400" spc="-1" strike="noStrike">
                        <a:solidFill>
                          <a:srgbClr val="4d4d4d"/>
                        </a:solidFill>
                        <a:latin typeface="Impact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e8ef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Appendix. Suggested PLL range 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ol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675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0~5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 Note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9x, 835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400~75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100~400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50~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*Note: CPU, LX: each frequency step is 50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Memory: each frequency step is 25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38x, 833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300, 5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mo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93, 300 MHz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200 MH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B859F6E-3246-4978-9B70-1CAC4B5A50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46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Flow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3B1326D9-6A76-4097-9BE9-751CC32A1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1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2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73" name="文字方塊 30"/>
          <p:cNvSpPr/>
          <p:nvPr/>
        </p:nvSpPr>
        <p:spPr>
          <a:xfrm>
            <a:off x="142920" y="785880"/>
            <a:ext cx="36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Impact"/>
              </a:rPr>
              <a:t>Figure. DDR bring up configuration flow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74" name="群組 15"/>
          <p:cNvGrpSpPr/>
          <p:nvPr/>
        </p:nvGrpSpPr>
        <p:grpSpPr>
          <a:xfrm>
            <a:off x="2714760" y="1285920"/>
            <a:ext cx="3714480" cy="3929040"/>
            <a:chOff x="2714760" y="1285920"/>
            <a:chExt cx="3714480" cy="3929040"/>
          </a:xfrm>
        </p:grpSpPr>
        <p:sp>
          <p:nvSpPr>
            <p:cNvPr id="75" name="圓角矩形 6"/>
            <p:cNvSpPr/>
            <p:nvPr/>
          </p:nvSpPr>
          <p:spPr>
            <a:xfrm>
              <a:off x="2714760" y="1285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2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6" name="圓角矩形 7"/>
            <p:cNvSpPr/>
            <p:nvPr/>
          </p:nvSpPr>
          <p:spPr>
            <a:xfrm>
              <a:off x="2714760" y="214308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7" name="圓角矩形 9"/>
            <p:cNvSpPr/>
            <p:nvPr/>
          </p:nvSpPr>
          <p:spPr>
            <a:xfrm>
              <a:off x="2714760" y="385776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8" name="向下箭號 10"/>
            <p:cNvSpPr/>
            <p:nvPr/>
          </p:nvSpPr>
          <p:spPr>
            <a:xfrm>
              <a:off x="4281480" y="185724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79" name="向下箭號 11"/>
            <p:cNvSpPr/>
            <p:nvPr/>
          </p:nvSpPr>
          <p:spPr>
            <a:xfrm>
              <a:off x="4286160" y="271476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0" name="圓角矩形 13"/>
            <p:cNvSpPr/>
            <p:nvPr/>
          </p:nvSpPr>
          <p:spPr>
            <a:xfrm>
              <a:off x="2714760" y="300024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1" name="向下箭號 14"/>
            <p:cNvSpPr/>
            <p:nvPr/>
          </p:nvSpPr>
          <p:spPr>
            <a:xfrm>
              <a:off x="4286160" y="357192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2" name="圓角矩形 15"/>
            <p:cNvSpPr/>
            <p:nvPr/>
          </p:nvSpPr>
          <p:spPr>
            <a:xfrm>
              <a:off x="2714760" y="4714920"/>
              <a:ext cx="3714480" cy="50004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24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83" name="向下箭號 16"/>
            <p:cNvSpPr/>
            <p:nvPr/>
          </p:nvSpPr>
          <p:spPr>
            <a:xfrm>
              <a:off x="4286160" y="4429080"/>
              <a:ext cx="428400" cy="2235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785880"/>
            <a:ext cx="86868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 Preloader C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s ‘.’ to trigger CLI before entry u-boo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700CEF03-0BFC-4579-A025-01B06EFC1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7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88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28800" y="1725480"/>
            <a:ext cx="5715000" cy="400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Preloader Configuration To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configuration with dram/pll set comm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00000"/>
                </a:solidFill>
                <a:latin typeface="Calibri"/>
              </a:rPr>
              <a:t>*Note: more commands and related available value, please reference </a:t>
            </a:r>
            <a:r>
              <a:rPr b="0" lang="en-US" sz="2000" spc="-1" strike="noStrike" u="sng">
                <a:solidFill>
                  <a:srgbClr val="0033cc"/>
                </a:solidFill>
                <a:uFillTx/>
                <a:latin typeface="Calibri"/>
                <a:hlinkClick r:id="rId1" action="ppaction://hlinksldjump"/>
              </a:rPr>
              <a:t>Appendix. Command List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 and re-do calib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apply modifi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figuration to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ave_pa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ave current configuration back t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how dram_inf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: show current DRAM configuration, not configuration in control regi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A58E1B80-E581-425A-B392-1E13C6052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Configuration Tool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1388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equency Mod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fore DRAM bring up, DRAM frequency need to be che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frequency need to be modified, using pll set comm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do following steps to app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PLL configuration: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pll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y DRAM configuration:  ‘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all dram_set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1C496133-46A5-4DA4-8A2D-9CEC1EB39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8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99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0" name="圓角矩形圖說文字 236"/>
          <p:cNvSpPr/>
          <p:nvPr/>
        </p:nvSpPr>
        <p:spPr>
          <a:xfrm>
            <a:off x="1428840" y="1500120"/>
            <a:ext cx="3000240" cy="1500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mem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lx_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g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dsp_clk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*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if DSP exist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1" name="圓角矩形圖說文字 236"/>
          <p:cNvSpPr/>
          <p:nvPr/>
        </p:nvSpPr>
        <p:spPr>
          <a:xfrm>
            <a:off x="1428840" y="3400560"/>
            <a:ext cx="6072120" cy="102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mem_clk&gt; &lt;lx_clk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pll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lock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cpu_clk&gt; &lt;dsp_clk&gt;&lt;mem_clk&gt; &lt;lx_clk&gt; </a:t>
            </a:r>
            <a:r>
              <a:rPr b="0" i="1" lang="en-US" sz="1600" spc="-1" strike="noStrike">
                <a:solidFill>
                  <a:srgbClr val="0033cc"/>
                </a:solidFill>
                <a:latin typeface="Impact"/>
              </a:rPr>
              <a:t>*if DSP exist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unit is MHZ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2" name="圓角矩形圖說文字 236"/>
          <p:cNvSpPr/>
          <p:nvPr/>
        </p:nvSpPr>
        <p:spPr>
          <a:xfrm>
            <a:off x="1000080" y="5643720"/>
            <a:ext cx="6500880" cy="71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Note: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CPU, DSP, memory  and LX related frequency could be  found in </a:t>
            </a:r>
            <a:r>
              <a:rPr b="0" i="1" lang="en-US" sz="1600" spc="-1" strike="noStrike" u="sng">
                <a:solidFill>
                  <a:srgbClr val="ff0000"/>
                </a:solidFill>
                <a:uFillTx/>
                <a:latin typeface="Impact"/>
              </a:rPr>
              <a:t>CPU &amp; Memory Controller Datasheet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or</a:t>
            </a:r>
            <a:r>
              <a:rPr b="0" i="1" lang="en-US" sz="16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n-US" sz="1600" spc="-1" strike="noStrike" u="sng">
                <a:solidFill>
                  <a:srgbClr val="0033cc"/>
                </a:solidFill>
                <a:uFillTx/>
                <a:latin typeface="Impact"/>
                <a:hlinkClick r:id="rId1" action="ppaction://hlinksldjump"/>
              </a:rPr>
              <a:t>Appendix . Suggested PLL Range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Size and Bus 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4ABD094-5FED-4FCA-81B1-7F237D83F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6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7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08" name="圓角矩形圖說文字 236"/>
          <p:cNvSpPr/>
          <p:nvPr/>
        </p:nvSpPr>
        <p:spPr>
          <a:xfrm>
            <a:off x="714240" y="1428840"/>
            <a:ext cx="2857680" cy="928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buswidth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size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  <p:grpSp>
        <p:nvGrpSpPr>
          <p:cNvPr id="109" name="群組 15"/>
          <p:cNvGrpSpPr/>
          <p:nvPr/>
        </p:nvGrpSpPr>
        <p:grpSpPr>
          <a:xfrm>
            <a:off x="6643800" y="857160"/>
            <a:ext cx="2009520" cy="2643120"/>
            <a:chOff x="6643800" y="857160"/>
            <a:chExt cx="2009520" cy="2643120"/>
          </a:xfrm>
        </p:grpSpPr>
        <p:sp>
          <p:nvSpPr>
            <p:cNvPr id="110" name="圓角矩形 6"/>
            <p:cNvSpPr/>
            <p:nvPr/>
          </p:nvSpPr>
          <p:spPr>
            <a:xfrm>
              <a:off x="6643800" y="857160"/>
              <a:ext cx="2004840" cy="357120"/>
            </a:xfrm>
            <a:prstGeom prst="roundRect">
              <a:avLst>
                <a:gd name="adj" fmla="val 16667"/>
              </a:avLst>
            </a:prstGeom>
            <a:solidFill>
              <a:srgbClr val="ffb0b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Pre-Configuration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1" name="圓角矩形 7"/>
            <p:cNvSpPr/>
            <p:nvPr/>
          </p:nvSpPr>
          <p:spPr>
            <a:xfrm>
              <a:off x="6643800" y="14284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DDR Pad Settin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2" name="圓角矩形 8"/>
            <p:cNvSpPr/>
            <p:nvPr/>
          </p:nvSpPr>
          <p:spPr>
            <a:xfrm>
              <a:off x="6643800" y="257184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READ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3" name="向下箭號 9"/>
            <p:cNvSpPr/>
            <p:nvPr/>
          </p:nvSpPr>
          <p:spPr>
            <a:xfrm>
              <a:off x="7526160" y="127620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4" name="向下箭號 10"/>
            <p:cNvSpPr/>
            <p:nvPr/>
          </p:nvSpPr>
          <p:spPr>
            <a:xfrm>
              <a:off x="7526160" y="18158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5" name="圓角矩形 11"/>
            <p:cNvSpPr/>
            <p:nvPr/>
          </p:nvSpPr>
          <p:spPr>
            <a:xfrm>
              <a:off x="6648480" y="200016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WRITE Timing Adjustment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6" name="向下箭號 12"/>
            <p:cNvSpPr/>
            <p:nvPr/>
          </p:nvSpPr>
          <p:spPr>
            <a:xfrm>
              <a:off x="7524720" y="240012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7" name="圓角矩形 15"/>
            <p:cNvSpPr/>
            <p:nvPr/>
          </p:nvSpPr>
          <p:spPr>
            <a:xfrm>
              <a:off x="6643800" y="3178080"/>
              <a:ext cx="2004840" cy="322200"/>
            </a:xfrm>
            <a:prstGeom prst="roundRect">
              <a:avLst>
                <a:gd name="adj" fmla="val 16667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en-US" sz="1200" spc="-1" strike="noStrike">
                  <a:solidFill>
                    <a:srgbClr val="4d4d4d"/>
                  </a:solidFill>
                  <a:latin typeface="Impact"/>
                </a:rPr>
                <a:t>Memory Test &amp; Restore Config</a:t>
              </a:r>
              <a:endParaRPr b="0" lang="en-US" sz="1200" spc="-1" strike="noStrike">
                <a:solidFill>
                  <a:srgbClr val="4d4d4d"/>
                </a:solidFill>
                <a:latin typeface="Impact"/>
              </a:endParaRPr>
            </a:p>
          </p:txBody>
        </p:sp>
        <p:sp>
          <p:nvSpPr>
            <p:cNvPr id="118" name="向下箭號 14"/>
            <p:cNvSpPr/>
            <p:nvPr/>
          </p:nvSpPr>
          <p:spPr>
            <a:xfrm>
              <a:off x="7524720" y="3000240"/>
              <a:ext cx="231480" cy="11268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1f0d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4d4d4d"/>
                </a:solidFill>
                <a:latin typeface="Impact"/>
              </a:endParaRPr>
            </a:p>
          </p:txBody>
        </p:sp>
      </p:grpSp>
      <p:sp>
        <p:nvSpPr>
          <p:cNvPr id="119" name="矩形 17"/>
          <p:cNvSpPr/>
          <p:nvPr/>
        </p:nvSpPr>
        <p:spPr>
          <a:xfrm>
            <a:off x="500040" y="4071960"/>
            <a:ext cx="8072640" cy="1465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DR3 NANYA NT5CB128MHP: </a:t>
            </a:r>
            <a:r>
              <a:rPr b="0" lang="en-US" sz="1800" spc="-1" strike="noStrike">
                <a:solidFill>
                  <a:srgbClr val="0033cc"/>
                </a:solidFill>
                <a:latin typeface="Calibri"/>
              </a:rPr>
              <a:t>256MB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Bus Width=16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buswidth 1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size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alibri"/>
              </a:rPr>
              <a:t>Pre-Configuration (cont.)</a:t>
            </a:r>
            <a:endParaRPr b="1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600" y="713880"/>
            <a:ext cx="86868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p 1-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Config DRAM AC Tim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CAS, tWR, tCWL, tRTP, tWTR, tREF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P, tRCD, tRRD, tFAW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TR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RFC, t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*Note: 1. pre-calibration tool will apply a safe DT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configuration, or user can find out be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arameters according to DRAM datashe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2. please reference next page for how to fi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those parame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4067280" y="642924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fld id="{06C7BC44-FF2B-4426-B787-6C818458C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3" name="日期版面配置區 4"/>
          <p:cNvSpPr/>
          <p:nvPr/>
        </p:nvSpPr>
        <p:spPr>
          <a:xfrm>
            <a:off x="5210280" y="642924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Osaka"/>
              </a:rPr>
              <a:t>Copyright © 2013 Realtek Semiconductor Corp.</a:t>
            </a:r>
            <a:endParaRPr b="0" lang="en-US" sz="12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4" name="頁尾版面配置區 5"/>
          <p:cNvSpPr/>
          <p:nvPr/>
        </p:nvSpPr>
        <p:spPr>
          <a:xfrm>
            <a:off x="561960" y="6429240"/>
            <a:ext cx="19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ww.realtek.com</a:t>
            </a:r>
            <a:endParaRPr b="0" lang="en-US" sz="14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357120" y="4143240"/>
            <a:ext cx="807264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ample 1-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If DRAM frequency is 300MHz, 1 tCLK= 3.3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RD minimum requirement is 7.5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RD = 3 tCLK = 10ns &gt; 7.5 n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rd 3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REF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ccording to spec, tREFI minimum requirement is 7.8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using tREFI = 3072 tCLK = 12*256 tCLK= 10.1 us &gt; 7.8 us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ing preloader CLI commands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 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“ and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dram trefi_unit 25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4d4d4d"/>
              </a:solidFill>
              <a:latin typeface="Impact"/>
            </a:endParaRPr>
          </a:p>
        </p:txBody>
      </p:sp>
      <p:sp>
        <p:nvSpPr>
          <p:cNvPr id="126" name="圓角矩形圖說文字 236"/>
          <p:cNvSpPr/>
          <p:nvPr/>
        </p:nvSpPr>
        <p:spPr>
          <a:xfrm>
            <a:off x="6286680" y="642960"/>
            <a:ext cx="2500200" cy="3714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Impact"/>
              </a:rPr>
              <a:t>[ Related Commands]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cwl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t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wtr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efi_unit 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&lt;value&gt; 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p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c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rd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fawg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fc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set dram </a:t>
            </a:r>
            <a:r>
              <a:rPr b="0" i="1" lang="en-US" sz="1600" spc="-1" strike="noStrike">
                <a:solidFill>
                  <a:srgbClr val="000000"/>
                </a:solidFill>
                <a:latin typeface="Impact"/>
              </a:rPr>
              <a:t>tras</a:t>
            </a:r>
            <a:r>
              <a:rPr b="0" i="1" lang="en-US" sz="1600" spc="-1" strike="noStrike">
                <a:solidFill>
                  <a:srgbClr val="4d4d4d"/>
                </a:solidFill>
                <a:latin typeface="Impact"/>
              </a:rPr>
              <a:t> &lt;value&gt;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Impact"/>
              </a:rPr>
              <a:t>* unit is tCLK</a:t>
            </a:r>
            <a:endParaRPr b="0" lang="en-US" sz="1600" spc="-1" strike="noStrike">
              <a:solidFill>
                <a:srgbClr val="4d4d4d"/>
              </a:solidFill>
              <a:latin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08:00:17Z</dcterms:created>
  <dc:creator>Vic Hung</dc:creator>
  <dc:description/>
  <dc:language>en-US</dc:language>
  <cp:lastModifiedBy>alexhung</cp:lastModifiedBy>
  <dcterms:modified xsi:type="dcterms:W3CDTF">2013-06-10T08:00:44Z</dcterms:modified>
  <cp:revision>3400</cp:revision>
  <dc:subject/>
  <dc:title>8328SI Feature</dc:title>
</cp:coreProperties>
</file>